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48040" y="0"/>
            <a:ext cx="2944800" cy="49680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920880" y="740880"/>
            <a:ext cx="4952880" cy="371484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78960" y="4704840"/>
            <a:ext cx="5435640" cy="445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407520"/>
            <a:ext cx="2944800" cy="4968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48040" y="9407520"/>
            <a:ext cx="2944800" cy="49680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5EB7-F958-4F16-89E2-FC0FC8F80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20880" y="741240"/>
            <a:ext cx="4952880" cy="3714840"/>
          </a:xfrm>
          <a:prstGeom prst="rect">
            <a:avLst/>
          </a:prstGeom>
          <a:ln w="0">
            <a:noFill/>
          </a:ln>
        </p:spPr>
      </p:sp>
      <p:sp>
        <p:nvSpPr>
          <p:cNvPr id="118" name="PlaceHolder 2"/>
          <p:cNvSpPr>
            <a:spLocks noGrp="1"/>
          </p:cNvSpPr>
          <p:nvPr>
            <p:ph type="body"/>
          </p:nvPr>
        </p:nvSpPr>
        <p:spPr>
          <a:xfrm>
            <a:off x="678960" y="47048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19" name="Slide Number Placeholder 3"/>
          <p:cNvSpPr/>
          <p:nvPr/>
        </p:nvSpPr>
        <p:spPr>
          <a:xfrm>
            <a:off x="3848040" y="9407520"/>
            <a:ext cx="2944800" cy="4968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B5B0-E716-480B-B34E-CF0279155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5D32D-6A0B-4575-A697-51C7FBD59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9822F-C4F6-4389-B6B3-FDB4D326C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31367-9E52-4E0B-8377-01834BDEC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289EE-3574-44E8-BABA-86437C8C6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9098B-012A-4259-AC20-98DD4EAB9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306DC-7A7B-4EE5-BBDD-ECE410038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82986-2427-43B9-BC06-F47335A82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CFA73-1ACF-47AD-8EA2-F5EC16E45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12F6C-4A08-41C8-89ED-FE61CDB57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88FC4-A96C-4AD8-9992-AD87F156F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1AD30-7CFC-4F46-B6C1-053140F27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0AD12-DF9A-40EB-A175-A1DBE8C76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60F76-7378-40A4-A1C2-9D11A0D72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AD34A-7F1E-4A5A-B369-163E894A6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0B4A5-FC9C-445C-B6A2-16645F94F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10BD5-751F-43CF-A9DC-FDA56548D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3880B-EC32-4C67-B654-921130F9F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A85A9-0ECB-4D76-8AAE-0E2FCBA58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2C9E7-A8E8-4B0F-8A9D-D63728B25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054FD-4340-491B-AA7A-9B23C5E2D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FA30A-C7DE-4FED-B524-4DAAC39AA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979F-802F-4AAB-8340-265C96D37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3101B-0AD7-42F6-859C-1BC4D086C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D34E2-9A4F-40A2-8D8E-364BA7B65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BB24-F37A-42E2-BBFC-1B3917567B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76320" y="5943600"/>
            <a:ext cx="1828800" cy="804960"/>
          </a:xfrm>
          <a:prstGeom prst="rect">
            <a:avLst/>
          </a:prstGeom>
          <a:ln w="0">
            <a:noFill/>
          </a:ln>
        </p:spPr>
      </p:pic>
      <p:pic>
        <p:nvPicPr>
          <p:cNvPr id="42" name="Picture 1" descr=""/>
          <p:cNvPicPr/>
          <p:nvPr/>
        </p:nvPicPr>
        <p:blipFill>
          <a:blip r:embed="rId3"/>
          <a:srcRect l="22221" t="12389" r="27785" b="38095"/>
          <a:stretch/>
        </p:blipFill>
        <p:spPr>
          <a:xfrm>
            <a:off x="8077320" y="5783400"/>
            <a:ext cx="1066680" cy="947520"/>
          </a:xfrm>
          <a:prstGeom prst="rect">
            <a:avLst/>
          </a:prstGeom>
          <a:ln w="0">
            <a:noFill/>
          </a:ln>
        </p:spPr>
      </p:pic>
      <p:sp>
        <p:nvSpPr>
          <p:cNvPr id="4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B7C9-B794-4AAB-9467-4365D051FD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5638680" y="228600"/>
            <a:ext cx="3254400" cy="2919240"/>
          </a:xfrm>
          <a:prstGeom prst="rect">
            <a:avLst/>
          </a:prstGeom>
          <a:ln w="0">
            <a:noFill/>
          </a:ln>
        </p:spPr>
      </p:pic>
      <p:sp>
        <p:nvSpPr>
          <p:cNvPr id="94" name="PlaceHolder 1"/>
          <p:cNvSpPr>
            <a:spLocks noGrp="1"/>
          </p:cNvSpPr>
          <p:nvPr>
            <p:ph type="subTitle"/>
          </p:nvPr>
        </p:nvSpPr>
        <p:spPr>
          <a:xfrm>
            <a:off x="990720" y="2590560"/>
            <a:ext cx="7162560" cy="28954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95" name="Picture 4" descr=""/>
          <p:cNvPicPr/>
          <p:nvPr/>
        </p:nvPicPr>
        <p:blipFill>
          <a:blip r:embed="rId2"/>
          <a:stretch/>
        </p:blipFill>
        <p:spPr>
          <a:xfrm>
            <a:off x="533520" y="343080"/>
            <a:ext cx="4762440" cy="2095200"/>
          </a:xfrm>
          <a:prstGeom prst="rect">
            <a:avLst/>
          </a:prstGeom>
          <a:ln w="0">
            <a:noFill/>
          </a:ln>
        </p:spPr>
      </p:pic>
      <p:sp>
        <p:nvSpPr>
          <p:cNvPr id="96" name="TextBox 4"/>
          <p:cNvSpPr/>
          <p:nvPr/>
        </p:nvSpPr>
        <p:spPr>
          <a:xfrm>
            <a:off x="-230040" y="2514600"/>
            <a:ext cx="914400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Regional Accreditation Workshop</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For Latin America &amp; Caribbean Reg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Panama City, Panam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10 - 12</a:t>
            </a:r>
            <a:r>
              <a:rPr b="1" lang="en-US" sz="4000" spc="-1" strike="noStrike" baseline="30000">
                <a:solidFill>
                  <a:srgbClr val="007033"/>
                </a:solidFill>
                <a:latin typeface="Arial"/>
              </a:rPr>
              <a:t>th</a:t>
            </a:r>
            <a:r>
              <a:rPr b="1" lang="en-US" sz="4000" spc="-1" strike="noStrike">
                <a:solidFill>
                  <a:srgbClr val="007033"/>
                </a:solidFill>
                <a:latin typeface="Arial"/>
              </a:rPr>
              <a:t> Nov, 2011</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Fiduciary Standards Framework</a:t>
            </a:r>
            <a:endParaRPr b="0" lang="en-US" sz="40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Adaptation fund also places major emphasis on experience in handling large projects, especially those relating to climate change</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Project Cycle and Design</a:t>
            </a:r>
            <a:endParaRPr b="0" lang="en-US" sz="4000" spc="-1" strike="noStrike">
              <a:solidFill>
                <a:srgbClr val="000000"/>
              </a:solidFill>
              <a:latin typeface="Calibri"/>
            </a:endParaRPr>
          </a:p>
        </p:txBody>
      </p:sp>
      <p:sp>
        <p:nvSpPr>
          <p:cNvPr id="116" name="PlaceHolder 2"/>
          <p:cNvSpPr>
            <a:spLocks noGrp="1"/>
          </p:cNvSpPr>
          <p:nvPr>
            <p:ph/>
          </p:nvPr>
        </p:nvSpPr>
        <p:spPr>
          <a:xfrm>
            <a:off x="456840" y="1066680"/>
            <a:ext cx="8458200" cy="5059440"/>
          </a:xfrm>
          <a:prstGeom prst="rect">
            <a:avLst/>
          </a:prstGeom>
          <a:noFill/>
          <a:ln w="0">
            <a:noFill/>
          </a:ln>
        </p:spPr>
        <p:txBody>
          <a:bodyPr anchor="t">
            <a:normAutofit fontScale="99000"/>
          </a:bodyPr>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Enable participants to better comprehend the project cycle and the process of project design</a:t>
            </a:r>
            <a:endParaRPr b="0" lang="en-US" sz="28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1" lang="en-IN" sz="2400" spc="-1" strike="noStrike">
                <a:solidFill>
                  <a:srgbClr val="ff0000"/>
                </a:solidFill>
                <a:latin typeface="Calibri"/>
              </a:rPr>
              <a:t>i) Familiarizing with the project cycle</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1" lang="en-US" sz="2400" spc="-1" strike="noStrike">
                <a:solidFill>
                  <a:srgbClr val="ff0000"/>
                </a:solidFill>
                <a:latin typeface="Calibri"/>
              </a:rPr>
              <a:t>	</a:t>
            </a:r>
            <a:r>
              <a:rPr b="1" lang="en-US" sz="2400" spc="-1" strike="noStrike">
                <a:solidFill>
                  <a:srgbClr val="ff0000"/>
                </a:solidFill>
                <a:latin typeface="Calibri"/>
              </a:rPr>
              <a:t>ii)</a:t>
            </a:r>
            <a:r>
              <a:rPr b="1" lang="en-IN" sz="2400" spc="-1" strike="noStrike">
                <a:solidFill>
                  <a:srgbClr val="ff0000"/>
                </a:solidFill>
                <a:latin typeface="Calibri"/>
              </a:rPr>
              <a:t> Going through the sections of the project document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template and providing guidance on how to address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these</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iii) Help participants in better apprehending the process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of project design (based on the experience from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project reviews and from the outcomes of previous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Board meetings, including Board Decisions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related to project development process and the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a:t>
            </a:r>
            <a:r>
              <a:rPr b="1" lang="en-IN" sz="2400" spc="-1" strike="noStrike">
                <a:solidFill>
                  <a:srgbClr val="ff0000"/>
                </a:solidFill>
                <a:latin typeface="Calibri"/>
              </a:rPr>
              <a:t>      project level framework and baseline guidance) </a:t>
            </a:r>
            <a:r>
              <a:rPr b="1" lang="en-IN" sz="2400" spc="-1" strike="noStrike">
                <a:solidFill>
                  <a:srgbClr val="ff0000"/>
                </a:solidFill>
                <a:latin typeface="Calibri"/>
              </a:rPr>
              <a:t>	</a:t>
            </a:r>
            <a:endParaRPr b="0" lang="en-US" sz="2400" spc="-1" strike="noStrike">
              <a:solidFill>
                <a:srgbClr val="000000"/>
              </a:solidFill>
              <a:latin typeface="Calibri"/>
            </a:endParaRPr>
          </a:p>
          <a:p>
            <a:pPr lvl="1"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Why this workshop</a:t>
            </a:r>
            <a:endParaRPr b="0" lang="en-US" sz="4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pplications received from NIEs are incomplete resulting in prolonged correspondence</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dditional Information comes in tranches over a period of several month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panel has to undertake assessment several times for each application resulting in loss of continuity and additional pressure on resources like time and cos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Why this workshop .. contd</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re are some parameters of the Fiduciary standard in which applications have substantial gap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ll this leads to long delays in accreditation decision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Workshop Objectives</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miliarise participants with</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modalities of accessing resources from the Adaptation Fund and the operational guideline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ole of Designated Authority and selecting National Implementing Entitie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accreditation process at Adaptation Fu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Workshop Objectives .. contd</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lvl="1"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nable participants to do a comprehensive job of completing the accreditation application by:</a:t>
            </a:r>
            <a:endParaRPr b="0" lang="en-US" sz="2800" spc="-1" strike="noStrike">
              <a:solidFill>
                <a:srgbClr val="000000"/>
              </a:solidFill>
              <a:latin typeface="Calibri"/>
            </a:endParaRPr>
          </a:p>
          <a:p>
            <a:pPr lvl="2" marL="1428840" indent="-514440">
              <a:spcBef>
                <a:spcPts val="601"/>
              </a:spcBef>
              <a:buClr>
                <a:srgbClr val="ff0000"/>
              </a:buClr>
              <a:buFont typeface="Calibri"/>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Helping participants understand the Fiduciary Standard and its requirements in detail with particular emphasis on the management of the complete project cycle</a:t>
            </a:r>
            <a:endParaRPr b="0" lang="en-US" sz="2400" spc="-1" strike="noStrike">
              <a:solidFill>
                <a:srgbClr val="000000"/>
              </a:solidFill>
              <a:latin typeface="Calibri"/>
            </a:endParaRPr>
          </a:p>
          <a:p>
            <a:pPr lvl="2" marL="1428840" indent="-514440">
              <a:spcBef>
                <a:spcPts val="601"/>
              </a:spcBef>
              <a:buClr>
                <a:srgbClr val="ff0000"/>
              </a:buClr>
              <a:buFont typeface="Calibri"/>
              <a:buAutoNum type="romanL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Familiarising the participants with the     communication toolkit</a:t>
            </a:r>
            <a:endParaRPr b="0" lang="en-US" sz="2400" spc="-1" strike="noStrike">
              <a:solidFill>
                <a:srgbClr val="000000"/>
              </a:solidFill>
              <a:latin typeface="Calibri"/>
            </a:endParaRPr>
          </a:p>
          <a:p>
            <a:pPr lvl="2" marL="1428840" indent="-514440">
              <a:spcBef>
                <a:spcPts val="601"/>
              </a:spcBef>
              <a:buClr>
                <a:srgbClr val="ff0000"/>
              </a:buClr>
              <a:buFont typeface="Calibri"/>
              <a:buAutoNum type="romanL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Discussing an example of a completed application form</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Workshop Objectives .. contd</a:t>
            </a:r>
            <a:endParaRPr b="0" lang="en-US" sz="40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Enable participants to better comprehend the project cycle and the process of project desig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Adaptation Fund Documents</a:t>
            </a:r>
            <a:endParaRPr b="0" lang="en-US" sz="40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2 major documents providing detailed Procedures and Requirements for Assessing resources from the Adaptation Fund 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1.  Operational Policies and Guidelin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2.  Fiduciary Standards Framework</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Operational Policies and Guidelines</a:t>
            </a:r>
            <a:endParaRPr b="0" lang="en-US" sz="4000" spc="-1" strike="noStrike">
              <a:solidFill>
                <a:srgbClr val="000000"/>
              </a:solidFill>
              <a:latin typeface="Calibri"/>
            </a:endParaRPr>
          </a:p>
        </p:txBody>
      </p:sp>
      <p:sp>
        <p:nvSpPr>
          <p:cNvPr id="110" name="PlaceHolder 2"/>
          <p:cNvSpPr>
            <a:spLocks noGrp="1"/>
          </p:cNvSpPr>
          <p:nvPr>
            <p:ph/>
          </p:nvPr>
        </p:nvSpPr>
        <p:spPr>
          <a:xfrm>
            <a:off x="1066680" y="1371240"/>
            <a:ext cx="7848720" cy="525780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ild on Strategic Priorities and Guidelines adopted by CMP.4 (Dec 2008)</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dopted in October 2009, revision on-going</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cludes guidance on the accreditation process and the project cycle</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pported by other guidance documents</a:t>
            </a:r>
            <a:endParaRPr b="0" lang="en-US" sz="28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esults Based Management Framework</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valuation Framework (to be approved)</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Knowledge Management Framework (to be approv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Fiduciary Standards Framework</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Fiduciary Standard is a reference framework of Policies, Systems and practices which are required by an organization to effectively manage funds and projects on a sustainable basi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n applicant NIE is required to provide adequate documentary evidence of both the framework and its implementation in respect of all the key parameters of the Fiduciary Standard to the Adaptation Fund</a:t>
            </a:r>
            <a:endParaRPr b="0" lang="en-US" sz="28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Daouda</dc:creator>
  <dc:description>Generic presentation on the Adaptation Fund.</dc:description>
  <dc:language>en-US</dc:language>
  <cp:lastModifiedBy>Alejandro Kilpatrick</cp:lastModifiedBy>
  <dcterms:modified xsi:type="dcterms:W3CDTF">2011-10-24T10:23:57Z</dcterms:modified>
  <cp:revision>812</cp:revision>
  <dc:subject>Adaptation Fund presentation</dc:subject>
  <dc:title>The Adaptation Fund</dc:title>
</cp:coreProperties>
</file>