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7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fccc_logos_big"/>
          <p:cNvPicPr/>
          <p:nvPr/>
        </p:nvPicPr>
        <p:blipFill>
          <a:blip r:embed="rId2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1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unfccc_logos_big"/>
          <p:cNvPicPr/>
          <p:nvPr/>
        </p:nvPicPr>
        <p:blipFill>
          <a:blip r:embed="rId3"/>
          <a:stretch/>
        </p:blipFill>
        <p:spPr>
          <a:xfrm>
            <a:off x="639720" y="6261120"/>
            <a:ext cx="1354320" cy="430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aptation Fund in the context of the Financial Mechanism of the Convention</a:t>
            </a:r>
            <a:endParaRPr b="0" lang="en-US" sz="3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24960" y="3922200"/>
            <a:ext cx="78822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바탕"/>
              </a:rPr>
              <a:t>Workshop on the Process and Requirements for the Accreditation of National Implementing Entities  for Direct Access under the Adaptation Fund for the Africa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바탕"/>
              </a:rPr>
              <a:t>Panama City, Panama, 10-12 Novembe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5040" y="2276640"/>
            <a:ext cx="78674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on of financial resources on a grant or concessional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able to the Conference of the Par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able and balanced representation of all Parties within a transparent system of gover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e of the Parties and the entity or entities entrusted with the operation of the financial mechanism shall agree upon arrang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Mechanism of the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Article 11 of the Conven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35040" y="2276640"/>
            <a:ext cx="78674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onference of the Parties serving as the meeting of the Parties to this Protocol (CMP) shall ensure that a </a:t>
            </a: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share of the proceeds from certified project activities is used</a:t>
            </a:r>
            <a:r>
              <a:rPr b="0" lang="en-US" sz="1900" spc="-1" strike="noStrike">
                <a:solidFill>
                  <a:srgbClr val="4b93dc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 cover administrative expenses as well as </a:t>
            </a: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to assist developing country Parties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at are particularly vulnerable to the adverse effects of climate change </a:t>
            </a: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to meet the costs of adaptatio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yoto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Article 12 of K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5040" y="2349360"/>
            <a:ext cx="786744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ance concrete adaptation projects and programmes in developing country Pa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d from the share of proceeds (2%) on the clean development mechanism project activities and other sources of fu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ted developed countries to provide funding, which will be additional to the share of proc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be operated and managed by an entity entrusted with the operation of the financial mechanism of the Convention under the guidance by C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Decision 10/CP.7 (200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5040" y="2492280"/>
            <a:ext cx="7867440" cy="30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MP decided to designate the Adaptation Fund Board as the operating entity to supervise and manage the Adaptation Fun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cided on access to the Fun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gible Parties shall be able to submit their project proposals directly to the AF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ementing or executing entities chosen by governments may also approach the AFB directl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cided that in order to submit a project proposal, Parties and implementing or executing entities shall meet the criteria adopted by the Adaptation Fund Boa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Operationalization of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Decision 1/CMP.3 (200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5040" y="2060640"/>
            <a:ext cx="78674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Adaptation Fu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Special Climate Change Fun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upports, implementing adaptation measures that reduce the vulnerability and increase the adaptive capacity of countries, as priority along with other thematic are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Least Developed Countries Fun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upports  preparation and implementation of National Adaptation Programmes of Action (NAPAs) by LDC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Green Climate Fu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635040" y="1265400"/>
            <a:ext cx="7869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unds to Support Adaptation under the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55640" y="2276640"/>
            <a:ext cx="7869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Calibri"/>
              </a:rPr>
              <a:t>Thank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Calibri"/>
              </a:rPr>
              <a:t>Alejandro Kilpatrick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Calibri"/>
              </a:rPr>
              <a:t>Team Leader, Finance Sub-Programme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Calibri"/>
              </a:rPr>
              <a:t>UNFCCC secretariat</a:t>
            </a:r>
            <a:br>
              <a:rPr sz="2000"/>
            </a:br>
            <a:r>
              <a:rPr b="0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Akilpatrick@unfccc.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0:17:21Z</dcterms:created>
  <dc:creator>jordan</dc:creator>
  <dc:description/>
  <dc:language>en-US</dc:language>
  <cp:lastModifiedBy>Alejandro Kilpatrick</cp:lastModifiedBy>
  <cp:lastPrinted>2004-03-02T21:24:15Z</cp:lastPrinted>
  <dcterms:modified xsi:type="dcterms:W3CDTF">2011-11-02T15:24:18Z</dcterms:modified>
  <cp:revision>16</cp:revision>
  <dc:subject/>
  <dc:title>Finance Portal</dc:title>
</cp:coreProperties>
</file>