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96800" y="40176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6800" y="9529920"/>
            <a:ext cx="6105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49032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2" descr="unfccc_logos+text"/>
          <p:cNvPicPr/>
          <p:nvPr/>
        </p:nvPicPr>
        <p:blipFill>
          <a:blip r:embed="rId2"/>
          <a:stretch/>
        </p:blipFill>
        <p:spPr>
          <a:xfrm>
            <a:off x="496800" y="9642600"/>
            <a:ext cx="610416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490680" y="154080"/>
            <a:ext cx="6103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4680" y="309240"/>
            <a:ext cx="7869240" cy="14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08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55120" y="126324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3504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08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55120" y="3523680"/>
            <a:ext cx="253296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352368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504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263240"/>
            <a:ext cx="38390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5040" y="3523680"/>
            <a:ext cx="786744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9802" t="0" r="54258" b="0"/>
          <a:stretch/>
        </p:blipFill>
        <p:spPr>
          <a:xfrm>
            <a:off x="0" y="5861160"/>
            <a:ext cx="1219320" cy="996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6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3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rcRect l="9802" t="0" r="54258" b="0"/>
          <a:stretch/>
        </p:blipFill>
        <p:spPr>
          <a:xfrm>
            <a:off x="0" y="5861160"/>
            <a:ext cx="12193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ctr">
              <a:lnSpc>
                <a:spcPts val="29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rcRect l="9802" t="0" r="54258" b="0"/>
          <a:stretch/>
        </p:blipFill>
        <p:spPr>
          <a:xfrm>
            <a:off x="0" y="5861160"/>
            <a:ext cx="1219320" cy="996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1263600"/>
            <a:ext cx="136440" cy="432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007560" y="1263600"/>
            <a:ext cx="136440" cy="432612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4"/>
          <p:cNvSpPr/>
          <p:nvPr/>
        </p:nvSpPr>
        <p:spPr>
          <a:xfrm>
            <a:off x="0" y="126540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0" descr="unfccc_schriftzug_big"/>
          <p:cNvPicPr/>
          <p:nvPr/>
        </p:nvPicPr>
        <p:blipFill>
          <a:blip r:embed="rId2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0" y="6210360"/>
            <a:ext cx="220356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rcRect l="9802" t="0" r="54258" b="0"/>
          <a:stretch/>
        </p:blipFill>
        <p:spPr>
          <a:xfrm>
            <a:off x="0" y="5861160"/>
            <a:ext cx="1219320" cy="996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0" y="1262160"/>
            <a:ext cx="9144000" cy="4325760"/>
          </a:xfrm>
          <a:prstGeom prst="rect">
            <a:avLst/>
          </a:prstGeom>
          <a:solidFill>
            <a:srgbClr val="4b9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631800" y="77796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631800" y="6078600"/>
            <a:ext cx="7875720" cy="1440"/>
          </a:xfrm>
          <a:prstGeom prst="line">
            <a:avLst/>
          </a:prstGeom>
          <a:ln w="12600">
            <a:solidFill>
              <a:srgbClr val="4b9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unfccc_schriftzug_big"/>
          <p:cNvPicPr/>
          <p:nvPr/>
        </p:nvPicPr>
        <p:blipFill>
          <a:blip r:embed="rId3"/>
          <a:stretch/>
        </p:blipFill>
        <p:spPr>
          <a:xfrm>
            <a:off x="577800" y="309600"/>
            <a:ext cx="7866000" cy="314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35040" y="1263240"/>
            <a:ext cx="78674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96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268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26676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"/>
          </p:nvPr>
        </p:nvSpPr>
        <p:spPr>
          <a:xfrm>
            <a:off x="3273480" y="650556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FCCC secretariat,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2"/>
          </p:nvPr>
        </p:nvSpPr>
        <p:spPr>
          <a:xfrm>
            <a:off x="3273480" y="6261120"/>
            <a:ext cx="523080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irstname Lastname, Job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7120" y="2204640"/>
            <a:ext cx="788184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aptation Fund in the context of the Financial Mechanism of the Convention</a:t>
            </a:r>
            <a:endParaRPr b="0" lang="en-US" sz="30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24960" y="3922200"/>
            <a:ext cx="78822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바탕"/>
              </a:rPr>
              <a:t>Workshop on the Process and Requirements for the Accreditation of National Implementing Entities  for Direct Access under the Adaptation Fund for the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바탕"/>
              </a:rPr>
              <a:t>Apia, Samoa, 23-25 April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5040" y="2276640"/>
            <a:ext cx="78674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 of financial resources on a grant or concessional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able to the Conference of the Pa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able and balanced representation of all Parties within a transparent system of gover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e of the Parties and the entity or entities entrusted with the operation of the financial mechanism shall agree upon arrang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Mechanism of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rticle 11 of the Conven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35040" y="2276640"/>
            <a:ext cx="78674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onference of the Parties serving as the meeting of the Parties to this Protocol (CMP) shall ensure that a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share of the proceeds from certified project activities is used</a:t>
            </a:r>
            <a:r>
              <a:rPr b="0" lang="en-US" sz="1900" spc="-1" strike="noStrike">
                <a:solidFill>
                  <a:srgbClr val="4b93dc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 cover administrative expenses as well as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to assist developing country Partie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at are particularly vulnerable to the adverse effects of climate change </a:t>
            </a:r>
            <a:r>
              <a:rPr b="0" lang="en-US" sz="1900" spc="-1" strike="noStrike">
                <a:solidFill>
                  <a:srgbClr val="0070c0"/>
                </a:solidFill>
                <a:latin typeface="Arial"/>
              </a:rPr>
              <a:t>to meet the costs of adaptati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yot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rticle 12 of K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5040" y="2349360"/>
            <a:ext cx="786744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ance concrete adaptation projects and programmes in developing country Pa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d from the share of proceeds (2%) on the clean development mechanism project activities and other sources of fu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ed developed countries to provide funding, which will be additional to the share of proc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operated and managed by an entity entrusted with the operation of the financial mechanism of the Convention under the guidance by C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Decision 10/CP.7 (200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5040" y="2492280"/>
            <a:ext cx="7867440" cy="30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MP decided to designate the Adaptation Fund Board as the operating entity to supervise and manage the Adaptation Fu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ided on access to the Fun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gible Parties shall be able to submit their project proposals directly to the AF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7120">
              <a:lnSpc>
                <a:spcPts val="2398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ing or executing entities chosen by governments may also approach the AFB directl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ided that in order to submit a project proposal, Parties and implementing or executing entities shall meet the criteria adopted by the Adaptation Fund Bo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35040" y="1265400"/>
            <a:ext cx="786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alization of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Decision 1/CMP.3 (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5040" y="2060640"/>
            <a:ext cx="78674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Adaptation F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Special Climate Change Fun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upports, implementing adaptation measures that reduce the vulnerability and increase the adaptive capacity of countries, as priority along with other thematic are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Least Developed Countries Fun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upports  preparation and implementation of National Adaptation Programmes of Action (NAPAs) by LDC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Green Climate Fu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35040" y="1265400"/>
            <a:ext cx="7869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nds to Support Adaptation under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34680" y="309240"/>
            <a:ext cx="786924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93dc"/>
                </a:solidFill>
                <a:latin typeface="Arial"/>
              </a:rPr>
              <a:t>Adaptation Fund</a:t>
            </a:r>
            <a:endParaRPr b="0" lang="en-US" sz="1200" spc="-1" strike="noStrike">
              <a:solidFill>
                <a:srgbClr val="4b93dc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55640" y="2276640"/>
            <a:ext cx="7869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Calibri"/>
                <a:ea typeface="Arial"/>
              </a:rPr>
              <a:t>Thank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93dc"/>
                </a:solidFill>
                <a:latin typeface="Calibri"/>
                <a:ea typeface="Arial"/>
              </a:rPr>
              <a:t>Alejandro Kilpatrick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Calibri"/>
                <a:ea typeface="Arial"/>
              </a:rPr>
              <a:t>Team Leader, Finance Sub-Programme</a:t>
            </a:r>
            <a:br>
              <a:rPr sz="2000"/>
            </a:br>
            <a:r>
              <a:rPr b="0" lang="en-US" sz="2000" spc="-1" strike="noStrike">
                <a:solidFill>
                  <a:srgbClr val="4b93dc"/>
                </a:solidFill>
                <a:latin typeface="Calibri"/>
                <a:ea typeface="Arial"/>
              </a:rPr>
              <a:t>UNFCCC secretariat</a:t>
            </a:r>
            <a:br>
              <a:rPr sz="2000"/>
            </a:br>
            <a:r>
              <a:rPr b="0" lang="en-US" sz="1500" spc="-1" strike="noStrike">
                <a:solidFill>
                  <a:srgbClr val="4b93dc"/>
                </a:solidFill>
                <a:latin typeface="Arial"/>
                <a:ea typeface="Arial"/>
              </a:rPr>
              <a:t>AKilpatrick@unfccc.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0:17:21Z</dcterms:created>
  <dc:creator>Velasco</dc:creator>
  <dc:description/>
  <dc:language>en-US</dc:language>
  <cp:lastModifiedBy>wb359033</cp:lastModifiedBy>
  <cp:lastPrinted>2004-03-02T21:24:15Z</cp:lastPrinted>
  <dcterms:modified xsi:type="dcterms:W3CDTF">2012-04-22T21:50:14Z</dcterms:modified>
  <cp:revision>22</cp:revision>
  <dc:subject/>
  <dc:title>AF-NIE Manila</dc:title>
</cp:coreProperties>
</file>