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20880" y="7408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E268-8851-4DA5-9B9B-3F69B0C27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85B-FDD5-408C-9C15-FAF8ED821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D35-A72D-4E3D-9566-B4AC2480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D31-2561-49F9-A828-8360579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A28-DA49-43F1-89BA-2674F34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3D-FABC-42A4-BDAE-CAB9CA3E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37D3-B7AB-4D94-9E47-9FC1A55E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9D04-F117-4CF3-9E7B-99DF3AB1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2A0-5CCF-4A3E-8C72-3E22597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5361-FB25-4348-A012-EFF8C77E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D6D-DDE2-4496-9EDF-C2E0593F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2681-0330-4534-A013-7FCA7D1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D459-8A57-4C6E-A2D5-9CADEDE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2C4-13BB-46B4-A4EF-05CB8C3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A765-E2B1-4854-ABB7-54668D6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5C0F-48BD-4744-8B16-E8A8008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1C4B-CFBD-4C88-B726-D5B71C98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0340-D859-40BD-902E-33FC2CEE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DFF-2A1A-4384-930A-68D55BAA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F6C-1ABB-4887-BC2C-C957BF2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68A-1B6C-4135-B0AA-DED5E7F1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9F1-C8EA-41F0-9727-245D16CD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2BF-CB11-4C57-8348-32CCF51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62B-5459-47EA-8BA0-529E119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DE9-F83C-4BF8-9C0B-3305929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064-2A88-4A61-94C8-3BFE4AE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936A-D47D-41C9-B614-BAB27BD30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82880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66B-3B5D-4D65-A023-4547A4ED7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54400" cy="291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33520" y="343080"/>
            <a:ext cx="4762440" cy="2095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-76320" y="25146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Taller Regional de Acreditación para la Región de América Lat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y el Cari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Ciudad de Panama, Pa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Arial"/>
              </a:rPr>
              <a:t>10 - 12 Nov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Marco de Estándares Fiduciar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 Fondo de Adaptación igualmente toma en consideración la experiencia en el manejo de grandes proyectos, en especial aquellos relacionados con el cambio climático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Ciclo y Diseño de Proyec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Permitir que los participantes comprendan mejor el ciclo del proyecto y el proceso en el diseño del mismo al</a:t>
            </a:r>
            <a:r>
              <a:rPr b="1" lang="en-IN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b05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0000"/>
                </a:solidFill>
                <a:latin typeface="Calibri"/>
              </a:rPr>
              <a:t>Familiarizarse con el ciclo del proy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b05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0000"/>
                </a:solidFill>
                <a:latin typeface="Calibri"/>
              </a:rPr>
              <a:t>Repasar las secciones del documento del proyecto y proporcionar orientación sobre cómo abordar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601"/>
              </a:spcBef>
              <a:buClr>
                <a:srgbClr val="00b05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0000"/>
                </a:solidFill>
                <a:latin typeface="Calibri"/>
              </a:rPr>
              <a:t>Ayudar a los participantes para la mejor percepción del proceso del diseño del proyecto (con base en la experiencia de las revisiones y de los resultados de  reuniones previas de la Junta, incluyendo las decisiones de la Junta respecto al proceso del desarrollo del proyecto y el marco del nivel del proyecto y la orientación de bas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l propósito de este 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s solicitudes recibidas de las Entidades de Implementación Nacional  están en ocasiones incompletas lo que resulta en un intercambio prolong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 información adicional se recibe en partes separadas durante un período de varios me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 panel tiene que llevar a cabo varias evaluaciones para cada solicitud lo que ocasiona una pérdida de continuidad y presión adicional en términos de tiempo y c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El propósito de este taller..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isten algunos parámetros del estándar fiduciario en los cuales las solicitudes tienen vacíos consider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do esto ocasiona grandes retrasos en las decisiones sobre la acredit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Objetivos del 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miliarizar a los participantes c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s modalidades para accesar recursos del Fondo de Adaptación y con las directrices operaci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 papel de la autoridad designada y la selección de las Entidades de Implementación Nac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 proceso de acreditación ante el Fondo de Adapt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Objetivos del Taller..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7800" indent="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mitir a los participantes realizar un trabajo exhaustivo al completar la solicitud de acreditación a través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503360" indent="-514440">
              <a:spcBef>
                <a:spcPts val="601"/>
              </a:spcBef>
              <a:buClr>
                <a:srgbClr val="ff0000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yudarles a entender en detalle el Estándar Financiero y sus requerimientos con énfasis particular en la gestión del ciclo completo del proyec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503360" indent="-514440">
              <a:spcBef>
                <a:spcPts val="601"/>
              </a:spcBef>
              <a:buClr>
                <a:srgbClr val="ff0000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amiliarizarlos con el toolkit de comunic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503360" indent="-514440">
              <a:spcBef>
                <a:spcPts val="601"/>
              </a:spcBef>
              <a:buClr>
                <a:srgbClr val="ff0000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scutir un ejemplo de un formato de solicitud ya comple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50336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Objetivos del Taller..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itir que los participantes entiendan mejor el ciclo del proyecto y el proceso del diseño del proy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Documentos del Fondo </a:t>
            </a:r>
            <a:br>
              <a:rPr sz="4000"/>
            </a:b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de Adap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os dos documentos principales que contienen los Procedimientos y Requerimientos para acceder a los recursos del Fondo de Adaptación 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s Políticas Operacionales y Direct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 Marco de los Estándares Fiduci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33"/>
                </a:solidFill>
                <a:latin typeface="Calibri"/>
              </a:rPr>
              <a:t>Políticas Operacionales y Directr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 basan en las Prioridades Estratégicas y Directrices adoptadas por CMP.4 (diciembre de 2008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doptadas en octubre de 2009, su revisión está en proce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cluyen orientación sobre el proceso de acreditación y el ciclo de proye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yadas por otros documentos de orientación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3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co de Gestión por Result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3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co de evaluación (a ser aproba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703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co de la gestión del conocimiento (a ser aproba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33"/>
                </a:solidFill>
                <a:latin typeface="Calibri"/>
              </a:rPr>
              <a:t>Marco de Estándares Fiduciar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l estándar fiduciario es un marco de referencia de políticas, sistemas y prácticas que una organización requiere para manejar fondos y proyectos de manera eficaz y sosten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 requiere que una Entidad de Implementación Nacional solicitante proporcione ante el Fondo de Adaptación evidencia documentada tanto del marco como de su implementación con respecto a todos los principales parámetros del Estándar Fiducia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Daouda</dc:creator>
  <dc:description>Generic presentation on the Adaptation Fund.</dc:description>
  <dc:language>en-US</dc:language>
  <cp:lastModifiedBy>Alejandro Kilpatrick</cp:lastModifiedBy>
  <dcterms:modified xsi:type="dcterms:W3CDTF">2011-11-02T15:28:25Z</dcterms:modified>
  <cp:revision>853</cp:revision>
  <dc:subject>Adaptation Fund presentation</dc:subject>
  <dc:title>The Adaptation Fund</dc:title>
</cp:coreProperties>
</file>