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9"/>
          <p:cNvSpPr/>
          <p:nvPr/>
        </p:nvSpPr>
        <p:spPr>
          <a:xfrm>
            <a:off x="496800" y="40176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0"/>
          <p:cNvSpPr/>
          <p:nvPr/>
        </p:nvSpPr>
        <p:spPr>
          <a:xfrm>
            <a:off x="496800" y="952992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hdr"/>
          </p:nvPr>
        </p:nvSpPr>
        <p:spPr>
          <a:xfrm>
            <a:off x="49032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22" descr="unfccc_logos+text"/>
          <p:cNvPicPr/>
          <p:nvPr/>
        </p:nvPicPr>
        <p:blipFill>
          <a:blip r:embed="rId2"/>
          <a:stretch/>
        </p:blipFill>
        <p:spPr>
          <a:xfrm>
            <a:off x="496800" y="9642600"/>
            <a:ext cx="6104160" cy="59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3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7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4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8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9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0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1" descr="unfccc_logos_big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1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unfccc_logos_big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FCCC secretariat,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irstname Lastname, Job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l Fondo de Adaptación en el contexto del Mecanismo de Financiación de la Convención</a:t>
            </a:r>
            <a:endParaRPr b="0" lang="en-US" sz="3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24960" y="3922200"/>
            <a:ext cx="78822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바탕"/>
              </a:rPr>
              <a:t>Taller sobre el Proceso y Requerimientos para la Acreditación de las Entidades de Implementación Nacional para el Acceso Directo al Fondo de Adaptación para la Región de América Latina y el Cari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바탕"/>
              </a:rPr>
              <a:t>Ciudad de Panamá, Panamá, 10-12 novi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Fondo de Adaptación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86744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marL="18072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canismo de Financiación de la Conv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b93dc"/>
                </a:solidFill>
                <a:latin typeface="Arial"/>
              </a:rPr>
              <a:t>Artículo 11 de la Conve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ministro de recursos financieros en base a una donación o subv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inde cuentas a la Conferencia de las P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presentación equitativa y equilibrada de todas las Partes en el marco de un sistema de dirección transpar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Conferencia de las Partes y la entidad o entidades encomendadas con la operación del mecanismo de financiación convendran acerca de los arregl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Fondo de Adaptación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35040" y="2276640"/>
            <a:ext cx="786744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La Conferencia de las Partes en su calidad de reunión de las Partes de este Protocolo (CMP) se asegurará que</a:t>
            </a:r>
            <a:r>
              <a:rPr b="0" lang="de-DE" sz="1900" spc="-1" strike="noStrike">
                <a:solidFill>
                  <a:srgbClr val="0070c0"/>
                </a:solidFill>
                <a:latin typeface="Arial"/>
              </a:rPr>
              <a:t> una parte de los fondos procedentes de las actividades de los proyectos certificados se utilize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para cubrir los gastos administrativos al igual que</a:t>
            </a:r>
            <a:r>
              <a:rPr b="0" lang="de-DE" sz="1900" spc="-1" strike="noStrike">
                <a:solidFill>
                  <a:srgbClr val="0070c0"/>
                </a:solidFill>
                <a:latin typeface="Arial"/>
              </a:rPr>
              <a:t> para ayudar a las Partes que son países en desarrollo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particularmente vulnerables a los efectos adversos del cambio climático</a:t>
            </a:r>
            <a:r>
              <a:rPr b="0" lang="de-DE" sz="1900" spc="-1" strike="noStrike">
                <a:solidFill>
                  <a:srgbClr val="0070c0"/>
                </a:solidFill>
                <a:latin typeface="Arial"/>
              </a:rPr>
              <a:t> a hacer frente a los costos de la adaptación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35040" y="1265400"/>
            <a:ext cx="786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Protocolo de Kyo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4b93dc"/>
                </a:solidFill>
                <a:latin typeface="Arial"/>
              </a:rPr>
              <a:t>Artículo 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Fondo de Adaptación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65280" y="2276280"/>
            <a:ext cx="786744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50920" indent="-250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anciar proyectos y programas concretos de adaptación en países Parte en desarro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tá financiado por el 2% de los </a:t>
            </a:r>
            <a:r>
              <a:rPr b="0" lang="de-DE" sz="1800" spc="-1" strike="noStrike">
                <a:solidFill>
                  <a:srgbClr val="0070c0"/>
                </a:solidFill>
                <a:latin typeface="Arial"/>
              </a:rPr>
              <a:t>certificados de reducción de emisiones provenientes de proyecto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el Mecanismo de Desarrollo Limpio y por otras fuentes de financ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vitó a países en desarrollo a proporcionar financiamiento, el cual será adicional a la parte de los fondos provenientes de los ingresos de proyectos del MD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á operado y administrado por una entidad encomendada con la operación del mecanismo de financiación de la Convención bajo la dirección de la CM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635040" y="1265400"/>
            <a:ext cx="786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reación del Fondo de Adaptación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b93dc"/>
                </a:solidFill>
                <a:latin typeface="Arial"/>
                <a:ea typeface="Arial"/>
              </a:rPr>
              <a:t>Decisión 10/CP.7 (200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Fondo de Adaptación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35040" y="2492280"/>
            <a:ext cx="7867440" cy="30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La CMP resolvió designar a la Junta del Fondo de Adaptación como la entidad operativa para supervisar y administrar el Fondo de Adapt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Resolvió sobre el acceso al Fondo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Las Partes elegibles podrán presentar sus propuestas de proyecto directamente a la Junta del Fondo de Adapt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Las entidades de implementación o ejecutoras seleccionadas por los gobiernos podrán de igual manera acercarse directamente a la Junta del Fondo de Adapt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Resolvió que con el fin de presentar una propuesta de proyecto, las Partes y las entidades de implementación o ejecutoras deberán cumplir con los criterios adoptados por la Junta del Fondo de Adapt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635040" y="1265400"/>
            <a:ext cx="786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Operationalización del Fondo de Adapt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b93dc"/>
                </a:solidFill>
                <a:latin typeface="Arial"/>
                <a:ea typeface="Arial"/>
              </a:rPr>
              <a:t>Decisión 1/CMP.3 (2007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Fondo de Adaptación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5040" y="2205000"/>
            <a:ext cx="7867440" cy="27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70c0"/>
                </a:solidFill>
                <a:latin typeface="Arial"/>
              </a:rPr>
              <a:t>Fondo de Adapt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70c0"/>
                </a:solidFill>
                <a:latin typeface="Arial"/>
              </a:rPr>
              <a:t>Fondo Especial para el Cambio Climático (SCCF): </a:t>
            </a:r>
            <a:r>
              <a:rPr b="0" i="1" lang="de-DE" sz="1500" spc="-1" strike="noStrike">
                <a:solidFill>
                  <a:srgbClr val="000000"/>
                </a:solidFill>
                <a:latin typeface="Arial"/>
              </a:rPr>
              <a:t>Apoya la implementación de las medidas de adaptación que reducen la vulnerabilidad e incrementan la capacidad de adaptación de los países como una prioridad junto con otras áreas temática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70c0"/>
                </a:solidFill>
                <a:latin typeface="Arial"/>
              </a:rPr>
              <a:t>Fondo para los Países Menos Desarrollados (LDCF): </a:t>
            </a:r>
            <a:r>
              <a:rPr b="0" i="1" lang="de-DE" sz="1500" spc="-1" strike="noStrike">
                <a:solidFill>
                  <a:srgbClr val="000000"/>
                </a:solidFill>
                <a:latin typeface="Arial"/>
              </a:rPr>
              <a:t>Apoya la preparación e implementación de Programas de Acción Nacional para la Adaptación de los países menos desarrollados.</a:t>
            </a:r>
            <a:r>
              <a:rPr b="0" lang="de-DE" sz="15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70c0"/>
                </a:solidFill>
                <a:latin typeface="Arial"/>
              </a:rPr>
              <a:t>Fondo Verde para el Clim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635040" y="1265400"/>
            <a:ext cx="7869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ondos que apoyan la Adaptación en el marco de la Conv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Fondo de Adaptación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755640" y="2276640"/>
            <a:ext cx="78692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Calibri"/>
              </a:rPr>
              <a:t>Gracia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Calibri"/>
              </a:rPr>
              <a:t>Alejandro Kilpatrick</a:t>
            </a:r>
            <a:br>
              <a:rPr sz="2000"/>
            </a:br>
            <a:r>
              <a:rPr b="0" lang="en-US" sz="2000" spc="-1" strike="noStrike">
                <a:solidFill>
                  <a:srgbClr val="4b93dc"/>
                </a:solidFill>
                <a:latin typeface="Calibri"/>
              </a:rPr>
              <a:t>Team Leader, Finance Sub-Programme</a:t>
            </a:r>
            <a:br>
              <a:rPr sz="2000"/>
            </a:br>
            <a:r>
              <a:rPr b="0" lang="en-US" sz="2000" spc="-1" strike="noStrike">
                <a:solidFill>
                  <a:srgbClr val="4b93dc"/>
                </a:solidFill>
                <a:latin typeface="Calibri"/>
              </a:rPr>
              <a:t>UNFCCC secretariat</a:t>
            </a:r>
            <a:br>
              <a:rPr sz="2000"/>
            </a:br>
            <a:r>
              <a:rPr b="0" lang="en-US" sz="1500" spc="-1" strike="noStrike">
                <a:solidFill>
                  <a:srgbClr val="4b93dc"/>
                </a:solidFill>
                <a:latin typeface="Arial"/>
                <a:ea typeface="Arial"/>
              </a:rPr>
              <a:t>Akilpatrick@unfccc.i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0:17:21Z</dcterms:created>
  <dc:creator>jordan</dc:creator>
  <dc:description/>
  <dc:language>en-US</dc:language>
  <cp:lastModifiedBy>Alejandro Kilpatrick</cp:lastModifiedBy>
  <cp:lastPrinted>2004-03-02T21:24:15Z</cp:lastPrinted>
  <dcterms:modified xsi:type="dcterms:W3CDTF">2011-11-02T15:25:00Z</dcterms:modified>
  <cp:revision>55</cp:revision>
  <dc:subject/>
  <dc:title>Finance Portal</dc:title>
</cp:coreProperties>
</file>