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20880" y="7408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95E-299B-4A90-839C-539C6A401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985-D231-4190-A896-5450F5B0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F5A-4AE1-436E-9A88-A0CC1C479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5A6-7D51-44A4-BC9D-8810194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8CE-3CB5-4861-ADA2-10DA668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C2F-B9B2-4A19-B502-E26B48E2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85C-8D8D-4972-A984-7B422E75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8F4A-9D95-486D-9BB2-A4A46549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EC4-B942-4ED3-90BB-ED0A9FE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F0A-2BBA-4DCA-92BE-818968F9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41F-6B5C-4B80-B232-CC52610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50DC-8950-453D-9605-84CD9C54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7935-A4D7-4C60-A923-BE59BD37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66C8-4647-41AC-9608-306E9FC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64B-AD6C-4F63-B436-8E70467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02D7-B55A-4445-A84B-9033AAC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6EB-A5E6-4167-8E6D-C1F02AA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6C5-6659-4EAA-AF99-62D9B142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7C80-9A3C-4720-A2E6-3438A764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8B6-99C0-444D-BF44-B3D6E845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24A-FC85-47C2-8318-CE72D2A7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A30-92AA-458B-92BF-7152682A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BDB-4055-4BF9-821A-D5724F07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770-DBA0-442B-A1F4-17585BF8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15B-5386-4A4E-8B8A-AE392229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E8C-A11E-4947-AF95-D1C7DE5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36A-BFAB-452D-A934-D08E9CB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A8B3-CA4C-4B78-8F31-FA919285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82880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B02-1DD1-46A0-843B-0F67F2B9A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54400" cy="291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33520" y="343080"/>
            <a:ext cx="4762440" cy="2095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29559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Taller Regional de Acreditación para la Región de América Lat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y el Cari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Ciudad de Panama, Pa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10 - 12 Nov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stados Financieros y requisitos </a:t>
            </a:r>
            <a:br>
              <a:rPr sz="4000"/>
            </a:b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de Auditorí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olítica/estatutos y otros documentos publicados (como manuales) que establezcan la función de auditoría interna de la ent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Copias de los planes de auditoría interna de los últimos 2 años y del año act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Listado de los reportes de auditoría interna de los últimos 2 años y muestra de los repor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Respuesta de la gerencia y acción tomada sobre los reportes de auditoría in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Marco de Control In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Política u otro documento publicado que describa el marco de control de la 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Procedimientos que describan el sistema de pago/desembolso, con referencia especial a los pagos/desembolsos para los proyec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7033"/>
                </a:solidFill>
                <a:latin typeface="Calibri"/>
              </a:rPr>
              <a:t>Preparación de los Planes de Negocios </a:t>
            </a:r>
            <a:br>
              <a:rPr sz="3600"/>
            </a:br>
            <a:r>
              <a:rPr b="1" lang="en-US" sz="3600" spc="-1" strike="noStrike">
                <a:solidFill>
                  <a:srgbClr val="007033"/>
                </a:solidFill>
                <a:latin typeface="Calibri"/>
              </a:rPr>
              <a:t>y Presu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Estrategias/Planes de negocios a largo plazo y/o proyecciones financieras para los próximos 3 a 5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Presupuestos anuales para la organización u entidades dentro de la mi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porte de fin del año calendario o fiscal o del presupuesto periódico vs report actual con análisis de vari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Adquisicion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olítica de adquisi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rocedimientos o directrices detallados incluyendo la estructura y el papel de los principales comités para la toma de decis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isposiciones para la vigilancia/auditoría/revisión de la función de adquisiciones con muestras de reportes de vigilancia/auditoría/revis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rocedimientos para el manejo/control de las adquisiciones en las agencias ejecuto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eparación y aprobación </a:t>
            </a: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de proyec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ocumentos detallados del plan de proyecto de al menos 2 proyectos (incluyendo el posible impacto de los aspectos técnicos, financieros, económicos, sociales, ambientales y legales del proyecto durante la etapa de analísis de factibilidad) y el estudio de evaluación de los riesgos probables y los planes de mitigación correspond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etalles del proceso/procedimiento de aprobación del proyecto dentro de la entidad junto con los formatos y niveles de aprob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os muestras de los analísis de factibilidad de proyectos llevados a cabo en los últimos 12 a 18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eparación y aprobación </a:t>
            </a: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de proyectos</a:t>
            </a:r>
            <a:r>
              <a:rPr b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olítica y/o otro(s) documento(s) publicados que describan el marco/procedimientos de la evaluación de ries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os muestras de evaluaciones completadas del proyecto  con los riesgos identificados y las correspondientes estrategias/planes de mitig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Las dos muestras de los documentos del proyecto que demuestren esta capacidad pueden ser de los mismos proyectos para todos los aspectos de esta capac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007033"/>
                </a:solidFill>
                <a:latin typeface="Calibri"/>
              </a:rPr>
              <a:t>Planificación para la implementación  y revisión de calidad ante la aprobación </a:t>
            </a:r>
            <a:br>
              <a:rPr sz="3200"/>
            </a:br>
            <a:br>
              <a:rPr sz="5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anual de operación o procedimientos escritos para el sistema de revisión del proyecto durante la fase de dis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uestras de documentos de la revisión actual realizada para al menos 2 docum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uestras de los presupuestos del proy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Monitoreo y evaluación del proyec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olítica u otro documento publicado que describa los requerimientos de monitoreo y evalu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rocedimientos detallados y formatos utilizados para el monitoreo y evaluación durante la implementación del proy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rocedimientos para el sistema de proyecto-en-riesgo u otro proceso/sistema similar para asegurar soluciones rápidas a problemas que puedan interferir con el alcance de los objetivos del proy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Monitoreo y Evaluación del Proyec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uestra de reportes de monitoreo y evaluación del proy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uestra del estado de cuentas del proy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Muestra de los reportes de auditoría del proy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Análisis de los gastos vs presupuesto del proyec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Cierre del proyecto y evalu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portes del cierre del proyecto o reportes de evaluación independientes conteniendo la evaluación del impacto/implicaciones de los aspectos técnicos, financieros, económicos, sociales, ambientales y legales de los proyec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portes de evaluaciones independientes de los proyectos/programas complet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7033"/>
                </a:solidFill>
                <a:latin typeface="Calibri"/>
              </a:rPr>
              <a:t>Estándares Fiduciarios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33"/>
                </a:solidFill>
                <a:latin typeface="Calibri"/>
              </a:rPr>
              <a:t>Manejo de mala gestión financiera y otras malas práct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a política de no tolerancia para fraudes, mal manejo financiero y otras formas de malas prácticas y su disemin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Código de conducta/ética documentado aplicable al personal y los so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ocumentación que establece  vías para reportar casos de  incumplimiento/violación/mala conducta de nego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Detalles de las políticas y procedimientos relativos al manejo del conflicto de intereses y protección a denuncia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076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33"/>
                </a:solidFill>
                <a:latin typeface="Calibri"/>
              </a:rPr>
              <a:t>Manejo de mala gestión financiera y otras malas prácticas</a:t>
            </a:r>
            <a:br>
              <a:rPr sz="50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La estructura y el proceso/procedimientos dentro de la organización para manejar casos de fraude y mala administración y llevar a cabo las actividades de investigación necesari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Información sobre casos de violación del código de conducta/ético y fraudes reportados en términos del número de casos, tipos de violaciones y resúmen de la situación y la acción tom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Sistema para la vigilancia de la función ét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stándares Fiduciar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l estándar fiduciario es un marco de referencia de políticas, sistemas y prácticas que una organización requiere para manejar fondos y proyectos de manera eficaz y sosten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s 3 principales áreas del Estándar Fiduciario son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b05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ministración financiera e integr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b05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pacidad institu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b05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parencia, facultades de auto investigación y medidas contra la corrup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stándares Fiduciar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 requiere que una Entidad de Implementación Nacional solicitante proporcione ante el Fondo de Adaptación evidencia documentada tanto del marco como de su implementación con respecto a todos los principales parámetros del Estándar Fiducia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l Fondo de Adaptación igualmente toma en consideración la experiencia en el manejo de grandes proyectos, en especial aquellos relacionados con el cambio climátic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Administración Financiera e Integr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tuación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stados financieros y requerimientos de auditor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rco de control int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paración de los planes de negocios y presu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Capacidad Institu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quisi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paración y aprobación de proye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ificación de la implementación de proyectos y revisión de su calidad ante la aprob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nitoreo y evaluación de proye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erre de proyectos y evaluación f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76248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Transparencia, facultades de auto investigación y anti-corru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ejo de mala gestión financiera y otras malas práct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Situación Leg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Documentación que demuestre claramente la situación legal y el mand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33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3300"/>
                </a:solidFill>
                <a:latin typeface="Calibri"/>
              </a:rPr>
              <a:t>Si es necesario, proporcionar una carta por separado confirmando la situación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Listado de los fondos extranjeros de préstamos/donaciones manejados durante los últimos 2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stados Financieros y Requisitos </a:t>
            </a:r>
            <a:br>
              <a:rPr sz="4000"/>
            </a:b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de Auditorí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Estados financieros auditados incluyendo estados de cuenta de los proye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Reportes de auditoría externa con comentarios y respuestas de la geren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Términos de referencia del Comité de Auditoría y actas de las reun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Nombre y descripción breve del paquete de contabilidad utiliz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Daouda</dc:creator>
  <dc:description>Generic presentation on the Adaptation Fund.</dc:description>
  <dc:language>en-US</dc:language>
  <cp:lastModifiedBy>Alejandro Kilpatrick</cp:lastModifiedBy>
  <dcterms:modified xsi:type="dcterms:W3CDTF">2011-11-01T13:57:39Z</dcterms:modified>
  <cp:revision>914</cp:revision>
  <dc:subject>Adaptation Fund presentation</dc:subject>
  <dc:title>The Adaptation Fund</dc:title>
</cp:coreProperties>
</file>