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9736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s-MX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9040" y="4416120"/>
            <a:ext cx="550368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s-MX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47F82C9-347F-411D-8B3F-7C3D6B4B6265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0C4E25D-5661-4FE5-85BE-40D0CD8BEA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9040" y="4416120"/>
            <a:ext cx="550368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major storm events since 2004 – US$1.2billion in damage and los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36E8605-F22D-4DF9-B49F-15ACFC335E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9040" y="4416120"/>
            <a:ext cx="550368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9040" y="4416120"/>
            <a:ext cx="55036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3 Marcador de número de diapositiva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1F6E2D5-C867-4D11-9235-D09BC2370CD7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66A89E4-1D63-4824-B377-A867DE1069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9040" y="4416120"/>
            <a:ext cx="55036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DC2E856-8425-40F5-A4C1-2F0A056EA5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9040" y="4416120"/>
            <a:ext cx="550368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gh murder rate, among the highest in the wor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7F7C5-55B4-4059-B7D1-54AC80A5A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C39E2-5F5D-43D0-A7C6-01CD30DAA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2DA9D-509B-4FE7-87FA-CE8387BC8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86D80-90D2-4CBD-8E9F-398B21F3A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299A8-B13A-43F5-A76D-71F9BE666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BB8AE-A2C1-4BDF-997D-F8ABF6D4C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C3D9F-7ABD-4B84-AAF7-CC44A65ED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E758A-82E9-45C3-B122-DBB461AE1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5C217-DA1B-4C97-9D24-36B34F6BD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26CA2-463D-4C21-96F9-EC3165A7D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A595D-2AE2-4226-B6DA-C8B55CA1F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17491-BE31-4043-9022-1323951A8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B62BC-E54E-4AE4-92E5-DE3ED7FA84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0" y="380988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Panama City, Pana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November 11, 20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0" y="1219320"/>
            <a:ext cx="9144000" cy="1752480"/>
          </a:xfrm>
          <a:prstGeom prst="rect">
            <a:avLst/>
          </a:prstGeom>
          <a:gradFill rotWithShape="0">
            <a:gsLst>
              <a:gs pos="0">
                <a:srgbClr val="9cb88e"/>
              </a:gs>
              <a:gs pos="50000">
                <a:srgbClr val="ffffff"/>
              </a:gs>
              <a:gs pos="100000">
                <a:srgbClr val="9cb88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Adaptation Fund Accreditation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– the experience of the Planning Institute of Jamaic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1371600" y="1447920"/>
            <a:ext cx="3733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Environmen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estry &amp; watershed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agement of natural &amp; man-made haz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nd use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balanced reg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724280" y="1447920"/>
            <a:ext cx="41911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odiversity conserv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ergy (cost and supply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95% dependence on imported oi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anagement of wast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w and ineffective use of S&amp;T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mate change and Sea-level R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gradFill rotWithShape="0">
            <a:gsLst>
              <a:gs pos="0">
                <a:srgbClr val="9cb88e"/>
              </a:gs>
              <a:gs pos="50000">
                <a:srgbClr val="ffffff"/>
              </a:gs>
              <a:gs pos="100000">
                <a:srgbClr val="9cb88e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ain Sustainable Development Issue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0-75% of Jamaica’s population resides within 2 km of the co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astal zone contains approx. 75% of industries &amp; service sector; generates 90% of GD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of the island’s infrastructure, including 2 airports, some hospitals &amp; major road network located within the coastal z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9cb88e"/>
              </a:gs>
              <a:gs pos="50000">
                <a:srgbClr val="ffffff"/>
              </a:gs>
              <a:gs pos="100000">
                <a:srgbClr val="9cb88e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Albertus Medium"/>
              </a:rPr>
              <a:t>Climate Change &amp; Sea-level Rise - Context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447920" y="160020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astal and marine ecosystems are at threat from climate change and sea-level ris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velihoods (16 000+ fisher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astal prot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9cb88e"/>
              </a:gs>
              <a:gs pos="50000">
                <a:srgbClr val="ffffff"/>
              </a:gs>
              <a:gs pos="100000">
                <a:srgbClr val="9cb88e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Albertus Medium"/>
              </a:rPr>
              <a:t>Climate Change &amp; Sea-level Rise  - Contex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712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90360" y="1980720"/>
            <a:ext cx="7848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ween  2001 and 2008, 8 major events caused damage and losses estimated at US$1.1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gnificant impact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Human welfa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Economic activ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Infrastru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Property lo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Natural re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Content Placeholder 4" descr="http://www.un.org/wcm/webdav/site/chronicle/shared/images/2007/Issue2/0207p16_1.jpg"/>
          <p:cNvPicPr/>
          <p:nvPr/>
        </p:nvPicPr>
        <p:blipFill>
          <a:blip r:embed="rId1"/>
          <a:stretch/>
        </p:blipFill>
        <p:spPr>
          <a:xfrm>
            <a:off x="0" y="0"/>
            <a:ext cx="1828800" cy="165276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3"/>
          <p:cNvSpPr/>
          <p:nvPr/>
        </p:nvSpPr>
        <p:spPr>
          <a:xfrm>
            <a:off x="1752480" y="304920"/>
            <a:ext cx="7391520" cy="1112760"/>
          </a:xfrm>
          <a:prstGeom prst="rect">
            <a:avLst/>
          </a:prstGeom>
          <a:gradFill rotWithShape="0">
            <a:gsLst>
              <a:gs pos="0">
                <a:srgbClr val="9cb88e"/>
              </a:gs>
              <a:gs pos="50000">
                <a:srgbClr val="ffffff"/>
              </a:gs>
              <a:gs pos="100000">
                <a:srgbClr val="9cb88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Albertus Medium"/>
              </a:rPr>
              <a:t>Climate Change &amp; Sea-level Rise  - Contex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3"/>
          <p:cNvSpPr/>
          <p:nvPr/>
        </p:nvSpPr>
        <p:spPr>
          <a:xfrm>
            <a:off x="0" y="914400"/>
            <a:ext cx="9144000" cy="2819520"/>
          </a:xfrm>
          <a:prstGeom prst="rect">
            <a:avLst/>
          </a:prstGeom>
          <a:gradFill rotWithShape="0">
            <a:gsLst>
              <a:gs pos="0">
                <a:srgbClr val="9cb88e"/>
              </a:gs>
              <a:gs pos="50000">
                <a:srgbClr val="ffffff"/>
              </a:gs>
              <a:gs pos="100000">
                <a:srgbClr val="9cb88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cc"/>
                </a:solidFill>
                <a:latin typeface="Albertus Medium"/>
              </a:rPr>
              <a:t>Jamaica’s NIE Accreditati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func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itiate and co-ordinate development policies, plans, programmes for the economic, financial, social, cultural, and physical development of Jama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take research on national development 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gradFill rotWithShape="0">
            <a:gsLst>
              <a:gs pos="0">
                <a:srgbClr val="9cb88e"/>
              </a:gs>
              <a:gs pos="50000">
                <a:srgbClr val="ffffff"/>
              </a:gs>
              <a:gs pos="100000">
                <a:srgbClr val="9cb88e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he Planning Institute of Jama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age external co-operation agreements and program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laborate with international development partners in the identification and implementation of development pro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-360" y="274320"/>
            <a:ext cx="8991720" cy="1143000"/>
          </a:xfrm>
          <a:prstGeom prst="rect">
            <a:avLst/>
          </a:prstGeom>
          <a:gradFill rotWithShape="0">
            <a:gsLst>
              <a:gs pos="0">
                <a:srgbClr val="9cb88e"/>
              </a:gs>
              <a:gs pos="50000">
                <a:srgbClr val="ffffff"/>
              </a:gs>
              <a:gs pos="100000">
                <a:srgbClr val="9cb88e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Planning Institute of Jamai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PIOJ´s Divi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76320" y="1523520"/>
            <a:ext cx="90676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Director General’s Secretari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Economic Planning and Resear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Social Policy, Planning and Resear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External Co-operation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Sustainable Development &amp; Regional Plan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Corporate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Corporate Affairs, Marketing and Commun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3"/>
          <p:cNvSpPr/>
          <p:nvPr/>
        </p:nvSpPr>
        <p:spPr>
          <a:xfrm>
            <a:off x="0" y="274680"/>
            <a:ext cx="9144000" cy="1143000"/>
          </a:xfrm>
          <a:prstGeom prst="rect">
            <a:avLst/>
          </a:prstGeom>
          <a:gradFill rotWithShape="0">
            <a:gsLst>
              <a:gs pos="0">
                <a:srgbClr val="9cb88e"/>
              </a:gs>
              <a:gs pos="50000">
                <a:srgbClr val="ffffff"/>
              </a:gs>
              <a:gs pos="100000">
                <a:srgbClr val="9cb88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Albertus Medium"/>
              </a:rPr>
              <a:t>PIOJ´s Divisional Structur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0" y="1752120"/>
            <a:ext cx="9144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ion 2030 – National Development Plan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14: Climate Change &amp; Disaster &amp;Risk Re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4-1 Improve resilience to all forms of haza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4-3 Develop measures to adapt to climate 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4-4 Contribute to the effort to reduce global rate of climate 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0" y="304920"/>
            <a:ext cx="9144000" cy="1143000"/>
          </a:xfrm>
          <a:prstGeom prst="rect">
            <a:avLst/>
          </a:prstGeom>
          <a:gradFill rotWithShape="0">
            <a:gsLst>
              <a:gs pos="0">
                <a:srgbClr val="9cb88e"/>
              </a:gs>
              <a:gs pos="50000">
                <a:srgbClr val="ffffff"/>
              </a:gs>
              <a:gs pos="100000">
                <a:srgbClr val="9cb88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Albertus Medium"/>
              </a:rPr>
              <a:t>PIOJ &amp; Climate Change Adap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0" y="1752120"/>
            <a:ext cx="9144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0" y="304920"/>
            <a:ext cx="9144000" cy="1143000"/>
          </a:xfrm>
          <a:prstGeom prst="rect">
            <a:avLst/>
          </a:prstGeom>
          <a:gradFill rotWithShape="0">
            <a:gsLst>
              <a:gs pos="0">
                <a:srgbClr val="9cb88e"/>
              </a:gs>
              <a:gs pos="50000">
                <a:srgbClr val="ffffff"/>
              </a:gs>
              <a:gs pos="100000">
                <a:srgbClr val="9cb88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Albertus Medium"/>
              </a:rPr>
              <a:t>NIE Accreditation Time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Diagram 4" descr=""/>
          <p:cNvPicPr/>
          <p:nvPr/>
        </p:nvPicPr>
        <p:blipFill>
          <a:blip r:embed="rId1"/>
          <a:stretch/>
        </p:blipFill>
        <p:spPr>
          <a:xfrm>
            <a:off x="219240" y="1060560"/>
            <a:ext cx="8638920" cy="53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0" y="1523520"/>
            <a:ext cx="91440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untry Profi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Accreditation Proces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curement Poli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itutional Capac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maica’s NIE Climate Change Adaptation Program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-360" y="274320"/>
            <a:ext cx="8991720" cy="1143000"/>
          </a:xfrm>
          <a:prstGeom prst="rect">
            <a:avLst/>
          </a:prstGeom>
          <a:gradFill rotWithShape="0">
            <a:gsLst>
              <a:gs pos="0">
                <a:srgbClr val="9cb88e"/>
              </a:gs>
              <a:gs pos="50000">
                <a:srgbClr val="ffffff"/>
              </a:gs>
              <a:gs pos="100000">
                <a:srgbClr val="9cb88e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Outlin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76320" y="2209320"/>
            <a:ext cx="90676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9cb88e"/>
              </a:gs>
              <a:gs pos="50000">
                <a:srgbClr val="ffffff"/>
              </a:gs>
              <a:gs pos="100000">
                <a:srgbClr val="9cb88e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Albertus Medium"/>
              </a:rPr>
              <a:t>NIE Accreditation Time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Rectangle 4" descr=""/>
          <p:cNvPicPr/>
          <p:nvPr/>
        </p:nvPicPr>
        <p:blipFill>
          <a:blip r:embed="rId1"/>
          <a:stretch/>
        </p:blipFill>
        <p:spPr>
          <a:xfrm>
            <a:off x="49320" y="1762200"/>
            <a:ext cx="7759440" cy="23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broad areas covered to satisfy the criteria  for meeting Fiduciary Standar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) Financial integrity and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i)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Requisite Institutional Capac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ii) Transparency, self-investigative powers, and anti-corruption meas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0" y="0"/>
            <a:ext cx="9144000" cy="1417680"/>
          </a:xfrm>
          <a:prstGeom prst="rect">
            <a:avLst/>
          </a:prstGeom>
          <a:gradFill rotWithShape="0">
            <a:gsLst>
              <a:gs pos="0">
                <a:srgbClr val="9cb88e"/>
              </a:gs>
              <a:gs pos="50000">
                <a:srgbClr val="ffffff"/>
              </a:gs>
              <a:gs pos="100000">
                <a:srgbClr val="9cb88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FB Fiduciary Standa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curement procedures which provide for transparent practices, including competition;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apacity to undertake monitoring and evaluation;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bility to identify, develop and appraise project;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etency to manage or oversee the execution of the project/programme including ability to manage sub-recipients and to support project /programme delivery and implementatio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gradFill rotWithShape="0">
            <a:gsLst>
              <a:gs pos="0">
                <a:srgbClr val="9cb88e"/>
              </a:gs>
              <a:gs pos="50000">
                <a:srgbClr val="ffffff"/>
              </a:gs>
              <a:gs pos="100000">
                <a:srgbClr val="9cb88e"/>
              </a:gs>
            </a:gsLst>
            <a:lin ang="5400000"/>
          </a:gra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nstitutional Capac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ed references provided inclu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vernment of Jamaica Handbook of Public Sector Procurement 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actor General A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rruption (Prevention) Act 2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IOJ Act (198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Summari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ner City Basic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tego Bay Convention Cent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9144000" cy="1139760"/>
          </a:xfrm>
          <a:prstGeom prst="rect">
            <a:avLst/>
          </a:prstGeom>
          <a:gradFill rotWithShape="0">
            <a:gsLst>
              <a:gs pos="0">
                <a:srgbClr val="9cb88e"/>
              </a:gs>
              <a:gs pos="50000">
                <a:srgbClr val="ffffff"/>
              </a:gs>
              <a:gs pos="100000">
                <a:srgbClr val="9cb88e"/>
              </a:gs>
            </a:gsLst>
            <a:lin ang="5400000"/>
          </a:gra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IOJ’s Institutional Capac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9cb88e"/>
              </a:gs>
              <a:gs pos="50000">
                <a:srgbClr val="ffffff"/>
              </a:gs>
              <a:gs pos="100000">
                <a:srgbClr val="9cb88e"/>
              </a:gs>
            </a:gsLst>
            <a:lin ang="5400000"/>
          </a:gra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IOJ’s Institutional Capacity – Procur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uided by the Government of Jamaica Handbook of Public Sector Procurement Procedur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sight by the Office of Contractor General as required by Contractor General Act and the National Contracts Commi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J’s procurement policies and procedures are consistent with those of international development partners including the AF; e.g. EU procurement procedures apply for EU funded pro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9cb88e"/>
              </a:gs>
              <a:gs pos="50000">
                <a:srgbClr val="ffffff"/>
              </a:gs>
              <a:gs pos="100000">
                <a:srgbClr val="9cb88e"/>
              </a:gs>
            </a:gsLst>
            <a:lin ang="5400000"/>
          </a:gra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IOJ’s Institutional Capacity - Procur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licies and Procedures applies to procurement of goods, works and services (including technical experts) at all lev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-tiered approval process depending on value of contrac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9cb88e"/>
              </a:gs>
              <a:gs pos="50000">
                <a:srgbClr val="ffffff"/>
              </a:gs>
              <a:gs pos="100000">
                <a:srgbClr val="9cb88e"/>
              </a:gs>
            </a:gsLst>
            <a:lin ang="5400000"/>
          </a:gra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IOJ’s Institutional Capacity - Procur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3352680" y="2133720"/>
            <a:ext cx="13716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bi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2209680" y="2895480"/>
            <a:ext cx="373392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ional Contracts Commi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6"/>
          <p:cNvSpPr/>
          <p:nvPr/>
        </p:nvSpPr>
        <p:spPr>
          <a:xfrm>
            <a:off x="2666880" y="3809880"/>
            <a:ext cx="25146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tor Committe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7"/>
          <p:cNvSpPr/>
          <p:nvPr/>
        </p:nvSpPr>
        <p:spPr>
          <a:xfrm>
            <a:off x="1523880" y="4648320"/>
            <a:ext cx="472464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nistry / Agency Procurement Committe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8"/>
          <p:cNvSpPr/>
          <p:nvPr/>
        </p:nvSpPr>
        <p:spPr>
          <a:xfrm flipV="1">
            <a:off x="3886200" y="41148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9"/>
          <p:cNvSpPr/>
          <p:nvPr/>
        </p:nvSpPr>
        <p:spPr>
          <a:xfrm flipV="1">
            <a:off x="3886200" y="320004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10"/>
          <p:cNvSpPr/>
          <p:nvPr/>
        </p:nvSpPr>
        <p:spPr>
          <a:xfrm flipV="1">
            <a:off x="3886200" y="2438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11"/>
          <p:cNvSpPr/>
          <p:nvPr/>
        </p:nvSpPr>
        <p:spPr>
          <a:xfrm>
            <a:off x="5867280" y="1752480"/>
            <a:ext cx="990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12"/>
          <p:cNvSpPr/>
          <p:nvPr/>
        </p:nvSpPr>
        <p:spPr>
          <a:xfrm>
            <a:off x="6858000" y="1752480"/>
            <a:ext cx="0" cy="3657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13"/>
          <p:cNvSpPr/>
          <p:nvPr/>
        </p:nvSpPr>
        <p:spPr>
          <a:xfrm flipH="1">
            <a:off x="5714640" y="5410080"/>
            <a:ext cx="1143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4"/>
          <p:cNvSpPr/>
          <p:nvPr/>
        </p:nvSpPr>
        <p:spPr>
          <a:xfrm>
            <a:off x="7391520" y="1981080"/>
            <a:ext cx="1371600" cy="32889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fice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ra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9cb88e"/>
              </a:gs>
              <a:gs pos="50000">
                <a:srgbClr val="ffffff"/>
              </a:gs>
              <a:gs pos="100000">
                <a:srgbClr val="9cb88e"/>
              </a:gs>
            </a:gsLst>
            <a:lin ang="5400000"/>
          </a:gra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IOJ’s Institutional Capacity - Procur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OJ has substantial experience in procurement using national procedures &amp; IDP 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acting authority and implementing agency for number of projec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diting by PIOJ ensures procurement policies complian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9cb88e"/>
              </a:gs>
              <a:gs pos="50000">
                <a:srgbClr val="ffffff"/>
              </a:gs>
              <a:gs pos="100000">
                <a:srgbClr val="9cb88e"/>
              </a:gs>
            </a:gsLst>
            <a:lin ang="5400000"/>
          </a:gra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IOJ’s Institutional Capacity - Project Cycle Manag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Content Placeholder 3" descr=""/>
          <p:cNvPicPr/>
          <p:nvPr/>
        </p:nvPicPr>
        <p:blipFill>
          <a:blip r:embed="rId1"/>
          <a:stretch/>
        </p:blipFill>
        <p:spPr>
          <a:xfrm>
            <a:off x="1143000" y="1523880"/>
            <a:ext cx="70200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9cb88e"/>
              </a:gs>
              <a:gs pos="50000">
                <a:srgbClr val="ffffff"/>
              </a:gs>
              <a:gs pos="100000">
                <a:srgbClr val="9cb88e"/>
              </a:gs>
            </a:gsLst>
            <a:lin ang="5400000"/>
          </a:gra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IOJ’s Institutional Capacity - Project Cycle Manag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Content Placeholder 2"/>
          <p:cNvSpPr/>
          <p:nvPr/>
        </p:nvSpPr>
        <p:spPr>
          <a:xfrm>
            <a:off x="822240" y="1981080"/>
            <a:ext cx="778824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EN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ll designed and viable projects enter the budget and  public sector investment program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ment objectives of projects  are reali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ment impact of projects achiev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ountability in the use of development assistance and government’s budgetary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ffectiveness of the development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1295280"/>
            <a:ext cx="9144000" cy="3611520"/>
          </a:xfrm>
          <a:prstGeom prst="rect">
            <a:avLst/>
          </a:prstGeom>
          <a:gradFill rotWithShape="0">
            <a:gsLst>
              <a:gs pos="0">
                <a:srgbClr val="9cb88e"/>
              </a:gs>
              <a:gs pos="50000">
                <a:srgbClr val="ffffff"/>
              </a:gs>
              <a:gs pos="100000">
                <a:srgbClr val="9cb88e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ountry Profil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1630440"/>
          </a:xfrm>
          <a:prstGeom prst="rect">
            <a:avLst/>
          </a:prstGeom>
          <a:gradFill rotWithShape="0">
            <a:gsLst>
              <a:gs pos="0">
                <a:srgbClr val="9cb88e"/>
              </a:gs>
              <a:gs pos="50000">
                <a:srgbClr val="ffffff"/>
              </a:gs>
              <a:gs pos="100000">
                <a:srgbClr val="9cb88e"/>
              </a:gs>
            </a:gsLst>
            <a:lin ang="5400000"/>
          </a:gra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IOJ’s Institutional Capacity - Project Cycle Management : Ident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Content Placeholder 2"/>
          <p:cNvSpPr/>
          <p:nvPr/>
        </p:nvSpPr>
        <p:spPr>
          <a:xfrm>
            <a:off x="304920" y="2362320"/>
            <a:ext cx="8229600" cy="28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JM" sz="2400" spc="-1" strike="noStrike">
                <a:solidFill>
                  <a:srgbClr val="000000"/>
                </a:solidFill>
                <a:latin typeface="Arial"/>
              </a:rPr>
              <a:t>Project concepts submitted by Ministries, Departments and Agenc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JM" sz="2400" spc="-1" strike="noStrike">
                <a:solidFill>
                  <a:srgbClr val="000000"/>
                </a:solidFill>
                <a:latin typeface="Arial"/>
              </a:rPr>
              <a:t>PIOJ reviews  project concepts  to determine  among oth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gnment with Government’s strategic prior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chnical strength and logic of proposal – extent to which project as     conceptualised can address the problem identifi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sts/benefits – fiscal imp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OJ  engages in dialogue and discussion with sponsoring agency and other stakeholders  to develop concept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1630440"/>
          </a:xfrm>
          <a:prstGeom prst="rect">
            <a:avLst/>
          </a:prstGeom>
          <a:gradFill rotWithShape="0">
            <a:gsLst>
              <a:gs pos="0">
                <a:srgbClr val="9cb88e"/>
              </a:gs>
              <a:gs pos="50000">
                <a:srgbClr val="ffffff"/>
              </a:gs>
              <a:gs pos="100000">
                <a:srgbClr val="9cb88e"/>
              </a:gs>
            </a:gsLst>
            <a:lin ang="5400000"/>
          </a:gra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IOJ’s Institutional Capacity - Project Cycle Management : Prepa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Content Placeholder 2"/>
          <p:cNvSpPr/>
          <p:nvPr/>
        </p:nvSpPr>
        <p:spPr>
          <a:xfrm>
            <a:off x="838080" y="2209680"/>
            <a:ext cx="7521840" cy="357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JM" sz="2400" spc="-1" strike="noStrike">
                <a:solidFill>
                  <a:srgbClr val="000000"/>
                </a:solidFill>
                <a:latin typeface="Arial"/>
              </a:rPr>
              <a:t>PIOJ assists in elaborating project concept with sponsoring agency and International Development Part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JM" sz="2400" spc="-1" strike="noStrike">
                <a:solidFill>
                  <a:srgbClr val="000000"/>
                </a:solidFill>
                <a:latin typeface="Arial"/>
              </a:rPr>
              <a:t>Some aspects of the Preparation may require technical assistance/consultant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ject Concept  transformed into a project document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1630440"/>
          </a:xfrm>
          <a:prstGeom prst="rect">
            <a:avLst/>
          </a:prstGeom>
          <a:gradFill rotWithShape="0">
            <a:gsLst>
              <a:gs pos="0">
                <a:srgbClr val="9cb88e"/>
              </a:gs>
              <a:gs pos="50000">
                <a:srgbClr val="ffffff"/>
              </a:gs>
              <a:gs pos="100000">
                <a:srgbClr val="9cb88e"/>
              </a:gs>
            </a:gsLst>
            <a:lin ang="5400000"/>
          </a:gra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IOJ’s Institutional Capacity - Project Cycle Management : Ana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Content Placeholder 3" descr=""/>
          <p:cNvPicPr/>
          <p:nvPr/>
        </p:nvPicPr>
        <p:blipFill>
          <a:blip r:embed="rId1"/>
          <a:stretch/>
        </p:blipFill>
        <p:spPr>
          <a:xfrm>
            <a:off x="139680" y="1212840"/>
            <a:ext cx="8980560" cy="549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1630440"/>
          </a:xfrm>
          <a:prstGeom prst="rect">
            <a:avLst/>
          </a:prstGeom>
          <a:gradFill rotWithShape="0">
            <a:gsLst>
              <a:gs pos="0">
                <a:srgbClr val="9cb88e"/>
              </a:gs>
              <a:gs pos="50000">
                <a:srgbClr val="ffffff"/>
              </a:gs>
              <a:gs pos="100000">
                <a:srgbClr val="9cb88e"/>
              </a:gs>
            </a:gsLst>
            <a:lin ang="5400000"/>
          </a:gra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IOJ’s Institutional Capacity - Project Cycle Management : Negoti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Content Placeholder 2"/>
          <p:cNvSpPr/>
          <p:nvPr/>
        </p:nvSpPr>
        <p:spPr>
          <a:xfrm>
            <a:off x="685800" y="2133720"/>
            <a:ext cx="7521480" cy="357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JM" sz="2400" spc="-1" strike="noStrike">
                <a:solidFill>
                  <a:srgbClr val="000000"/>
                </a:solidFill>
                <a:latin typeface="Arial"/>
              </a:rPr>
              <a:t>Lead negotiations between the Government and Development Partn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JM" sz="2400" spc="-1" strike="noStrike">
                <a:solidFill>
                  <a:srgbClr val="000000"/>
                </a:solidFill>
                <a:latin typeface="Arial"/>
              </a:rPr>
              <a:t>Finalisation of Loan / Grant Agre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JM" sz="2400" spc="-1" strike="noStrike">
                <a:solidFill>
                  <a:srgbClr val="000000"/>
                </a:solidFill>
                <a:latin typeface="Arial"/>
              </a:rPr>
              <a:t>Projects enter the Budget and Public Sector Investment Programme after approval b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JM" sz="2000" spc="-1" strike="noStrike">
                <a:solidFill>
                  <a:srgbClr val="000000"/>
                </a:solidFill>
                <a:latin typeface="Arial"/>
              </a:rPr>
              <a:t>Government’s Prioritisation Committe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JM" sz="2000" spc="-1" strike="noStrike">
                <a:solidFill>
                  <a:srgbClr val="000000"/>
                </a:solidFill>
                <a:latin typeface="Arial"/>
              </a:rPr>
              <a:t>Funding Ag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1630440"/>
          </a:xfrm>
          <a:prstGeom prst="rect">
            <a:avLst/>
          </a:prstGeom>
          <a:gradFill rotWithShape="0">
            <a:gsLst>
              <a:gs pos="0">
                <a:srgbClr val="9cb88e"/>
              </a:gs>
              <a:gs pos="50000">
                <a:srgbClr val="ffffff"/>
              </a:gs>
              <a:gs pos="100000">
                <a:srgbClr val="9cb88e"/>
              </a:gs>
            </a:gsLst>
            <a:lin ang="5400000"/>
          </a:gra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IOJ’s Institutional Capacity - Project Cycle Management : Implementation &amp; Moni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Content Placeholder 2"/>
          <p:cNvSpPr/>
          <p:nvPr/>
        </p:nvSpPr>
        <p:spPr>
          <a:xfrm>
            <a:off x="228600" y="2057400"/>
            <a:ext cx="876312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ed system for the review of projects to address risk factors likely to constrain attainment of development objectives </a:t>
            </a:r>
            <a:r>
              <a:rPr b="0" lang="en-JM" sz="2400" spc="-1" strike="noStrike">
                <a:solidFill>
                  <a:srgbClr val="000000"/>
                </a:solidFill>
                <a:latin typeface="Arial"/>
              </a:rPr>
              <a:t>through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Monthly, quarterly, annual &amp; ad hoc review meet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teering committee meet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upervision meetings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lementation status  reviewed against logical framework or results fram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tended by the IDPs and Ministry of Finance and Plan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9144000" cy="1139760"/>
          </a:xfrm>
          <a:prstGeom prst="rect">
            <a:avLst/>
          </a:prstGeom>
          <a:gradFill rotWithShape="0">
            <a:gsLst>
              <a:gs pos="0">
                <a:srgbClr val="9cb88e"/>
              </a:gs>
              <a:gs pos="50000">
                <a:srgbClr val="ffffff"/>
              </a:gs>
              <a:gs pos="100000">
                <a:srgbClr val="9cb88e"/>
              </a:gs>
            </a:gsLst>
            <a:lin ang="5400000"/>
          </a:gra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IOJ’s Institutional Capacity - Manag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Content Placeholder 2"/>
          <p:cNvSpPr/>
          <p:nvPr/>
        </p:nvSpPr>
        <p:spPr>
          <a:xfrm>
            <a:off x="762120" y="1676520"/>
            <a:ext cx="8001000" cy="357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6"/>
          <p:cNvSpPr/>
          <p:nvPr/>
        </p:nvSpPr>
        <p:spPr>
          <a:xfrm>
            <a:off x="457200" y="1905120"/>
            <a:ext cx="82296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IOJ also implements and manages Projec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ject Units are established within the PIO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ancial Management for these projects is undertaken by Project Accoun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jects are audited both internally and external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jects being implemented by the PIOJ are subject to the same monitoring and oversight as projects implemented by other Government agenc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9144000" cy="1139760"/>
          </a:xfrm>
          <a:prstGeom prst="rect">
            <a:avLst/>
          </a:prstGeom>
          <a:gradFill rotWithShape="0">
            <a:gsLst>
              <a:gs pos="0">
                <a:srgbClr val="9cb88e"/>
              </a:gs>
              <a:gs pos="50000">
                <a:srgbClr val="ffffff"/>
              </a:gs>
              <a:gs pos="100000">
                <a:srgbClr val="9cb88e"/>
              </a:gs>
            </a:gsLst>
            <a:lin ang="5400000"/>
          </a:gra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IOJ’s Institutional Capacity - Evalu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Content Placeholder 2"/>
          <p:cNvSpPr/>
          <p:nvPr/>
        </p:nvSpPr>
        <p:spPr>
          <a:xfrm>
            <a:off x="762120" y="1676520"/>
            <a:ext cx="8001000" cy="357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Content Placeholder 2"/>
          <p:cNvSpPr/>
          <p:nvPr/>
        </p:nvSpPr>
        <p:spPr>
          <a:xfrm>
            <a:off x="685800" y="1600200"/>
            <a:ext cx="752148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OJ Staff participates in Evaluation Process  with Independent Consultan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ff also contribute to Project Completion Report and Implementation Report Done By ID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strength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IOJ – Government’s interlocutor with the International Development Partn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Institute’s core competencies cover a range of issues – macro-economy, real sectors, social sectors &amp; external co-operation management; &amp;  sustainable development – multi-dimensional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title"/>
          </p:nvPr>
        </p:nvSpPr>
        <p:spPr>
          <a:xfrm>
            <a:off x="151920" y="274320"/>
            <a:ext cx="8534520" cy="1143000"/>
          </a:xfrm>
          <a:prstGeom prst="rect">
            <a:avLst/>
          </a:prstGeom>
          <a:gradFill rotWithShape="0">
            <a:gsLst>
              <a:gs pos="0">
                <a:srgbClr val="9cb88e"/>
              </a:gs>
              <a:gs pos="50000">
                <a:srgbClr val="ffffff"/>
              </a:gs>
              <a:gs pos="100000">
                <a:srgbClr val="9cb88e"/>
              </a:gs>
            </a:gsLst>
            <a:lin ang="5400000"/>
          </a:gra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IOJ’s Institutional Capacity – Project Cycle Manag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38088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tional Authorising Office for the cooperation programme of the EU, with responsibility for executing all projects by the EC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ecutes the UNDP programme 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lements technical co-operation initiatives financed by multilateral &amp; bilateral ag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1143000"/>
          </a:xfrm>
          <a:prstGeom prst="rect">
            <a:avLst/>
          </a:prstGeom>
          <a:gradFill rotWithShape="0">
            <a:gsLst>
              <a:gs pos="0">
                <a:srgbClr val="9cb88e"/>
              </a:gs>
              <a:gs pos="50000">
                <a:srgbClr val="ffffff"/>
              </a:gs>
              <a:gs pos="100000">
                <a:srgbClr val="9cb88e"/>
              </a:gs>
            </a:gsLst>
            <a:lin ang="5400000"/>
          </a:gra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IOJ’s Institutional Capacity- Project Cycle Manag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0" y="233208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ariat for the Pre-Selection Committee, with responsibility for executing all project cycle management and undertaking financial and economic analysis of projects which are to be included in the Government’s Public Sector Investment Program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gradFill rotWithShape="0">
            <a:gsLst>
              <a:gs pos="0">
                <a:srgbClr val="9cb88e"/>
              </a:gs>
              <a:gs pos="50000">
                <a:srgbClr val="ffffff"/>
              </a:gs>
              <a:gs pos="100000">
                <a:srgbClr val="9cb88e"/>
              </a:gs>
            </a:gsLst>
            <a:lin ang="5400000"/>
          </a:gra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IOJ’s Institutional Capacity- Project Cycle Manag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Content Placeholder 3" descr="Map of the Caribbean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52578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1417680"/>
          </a:xfrm>
          <a:prstGeom prst="rect">
            <a:avLst/>
          </a:prstGeom>
          <a:gradFill rotWithShape="0">
            <a:gsLst>
              <a:gs pos="0">
                <a:srgbClr val="9cb88e"/>
              </a:gs>
              <a:gs pos="50000">
                <a:srgbClr val="ffffff"/>
              </a:gs>
              <a:gs pos="100000">
                <a:srgbClr val="9cb88e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Albertus Medium"/>
              </a:rPr>
              <a:t>Geographical Setting - Locatio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9144000" cy="1139760"/>
          </a:xfrm>
          <a:prstGeom prst="rect">
            <a:avLst/>
          </a:prstGeom>
          <a:gradFill rotWithShape="0">
            <a:gsLst>
              <a:gs pos="0">
                <a:srgbClr val="9cb88e"/>
              </a:gs>
              <a:gs pos="50000">
                <a:srgbClr val="ffffff"/>
              </a:gs>
              <a:gs pos="100000">
                <a:srgbClr val="9cb88e"/>
              </a:gs>
            </a:gsLst>
            <a:lin ang="5400000"/>
          </a:gra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IOJ’s Institutional Capacity – Compliance with AF Standar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Content Placeholder 2"/>
          <p:cNvSpPr/>
          <p:nvPr/>
        </p:nvSpPr>
        <p:spPr>
          <a:xfrm>
            <a:off x="762120" y="2057400"/>
            <a:ext cx="8001000" cy="357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Content Placeholder 2"/>
          <p:cNvSpPr/>
          <p:nvPr/>
        </p:nvSpPr>
        <p:spPr>
          <a:xfrm>
            <a:off x="685800" y="1905120"/>
            <a:ext cx="752148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ff interviews were conduc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views held with Ministries, Departments and Agencies, IDPs and other stakehol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CUMENTATION REVIEWS -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mplates used for project summaries  and profiles,  notes of project selection and monitoring meetings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ining material  used for ongoing in-house  hands on training courses, participation in external courses run by the IBRD, EU, CDB, ID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3"/>
          <p:cNvSpPr/>
          <p:nvPr/>
        </p:nvSpPr>
        <p:spPr>
          <a:xfrm>
            <a:off x="0" y="1143000"/>
            <a:ext cx="9144000" cy="3048120"/>
          </a:xfrm>
          <a:prstGeom prst="rect">
            <a:avLst/>
          </a:prstGeom>
          <a:gradFill rotWithShape="0">
            <a:gsLst>
              <a:gs pos="0">
                <a:srgbClr val="9cb88e"/>
              </a:gs>
              <a:gs pos="50000">
                <a:srgbClr val="ffffff"/>
              </a:gs>
              <a:gs pos="100000">
                <a:srgbClr val="9cb88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Jamaica’s NIE Climate Change Adaptation Programme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ter resources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d management including refores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griculture and food secu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uman health  (improving disease control and prevention and monitoring of diseases and vector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3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gradFill rotWithShape="0">
            <a:gsLst>
              <a:gs pos="0">
                <a:srgbClr val="9cb88e"/>
              </a:gs>
              <a:gs pos="50000">
                <a:srgbClr val="ffffff"/>
              </a:gs>
              <a:gs pos="100000">
                <a:srgbClr val="9cb88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Albertus Medium"/>
              </a:rPr>
              <a:t>NIE Thematic Prior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151920" y="1599840"/>
            <a:ext cx="89917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rastructure develop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rvation of eco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coastal zon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gradFill rotWithShape="0">
            <a:gsLst>
              <a:gs pos="0">
                <a:srgbClr val="9cb88e"/>
              </a:gs>
              <a:gs pos="50000">
                <a:srgbClr val="ffffff"/>
              </a:gs>
              <a:gs pos="100000">
                <a:srgbClr val="9cb88e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Albertus Medium"/>
              </a:rPr>
              <a:t>NIE Thematic Prior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stency with priority areas identified in th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National Communication to the UNFC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tional Climate Change Policy &amp; Action P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ion 2030 Jamaica National Development P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gradFill rotWithShape="0">
            <a:gsLst>
              <a:gs pos="0">
                <a:srgbClr val="9cb88e"/>
              </a:gs>
              <a:gs pos="50000">
                <a:srgbClr val="ffffff"/>
              </a:gs>
              <a:gs pos="100000">
                <a:srgbClr val="9cb88e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election Criter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ject proposals may be submitted b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mmunity-based Organizations (CBOs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on-governmental Organisation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ivate sector entiti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ublic sector agenc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3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gradFill rotWithShape="0">
            <a:gsLst>
              <a:gs pos="0">
                <a:srgbClr val="9cb88e"/>
              </a:gs>
              <a:gs pos="50000">
                <a:srgbClr val="ffffff"/>
              </a:gs>
              <a:gs pos="100000">
                <a:srgbClr val="9cb88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Albertus Medium"/>
              </a:rPr>
              <a:t>Who Qualifi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0" y="1599840"/>
            <a:ext cx="91440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-government agencie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monstrate that they have been in existence for a minimum of three years and have a sound management structure to implement and manage a project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pacity to effectively implement the project and that the project is for the common/community rather than the individual/personal bene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-360" y="274320"/>
            <a:ext cx="8991720" cy="1143000"/>
          </a:xfrm>
          <a:prstGeom prst="rect">
            <a:avLst/>
          </a:prstGeom>
          <a:gradFill rotWithShape="0">
            <a:gsLst>
              <a:gs pos="0">
                <a:srgbClr val="9cb88e"/>
              </a:gs>
              <a:gs pos="50000">
                <a:srgbClr val="ffffff"/>
              </a:gs>
              <a:gs pos="100000">
                <a:srgbClr val="9cb88e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Albertus Medium"/>
              </a:rPr>
              <a:t>Who Qualifi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o be selected projects must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how potential to contribute to poverty reduction and ultimately, national development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e implementable within a 36-month perio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title"/>
          </p:nvPr>
        </p:nvSpPr>
        <p:spPr>
          <a:xfrm>
            <a:off x="0" y="274320"/>
            <a:ext cx="9067680" cy="1143000"/>
          </a:xfrm>
          <a:prstGeom prst="rect">
            <a:avLst/>
          </a:prstGeom>
          <a:gradFill rotWithShape="0">
            <a:gsLst>
              <a:gs pos="0">
                <a:srgbClr val="9cb88e"/>
              </a:gs>
              <a:gs pos="50000">
                <a:srgbClr val="ffffff"/>
              </a:gs>
              <a:gs pos="100000">
                <a:srgbClr val="9cb88e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Albertus Medium"/>
              </a:rPr>
              <a:t>Who Qualifi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067680" cy="1143000"/>
          </a:xfrm>
          <a:prstGeom prst="rect">
            <a:avLst/>
          </a:prstGeom>
          <a:gradFill rotWithShape="0">
            <a:gsLst>
              <a:gs pos="0">
                <a:srgbClr val="9cb88e"/>
              </a:gs>
              <a:gs pos="50000">
                <a:srgbClr val="ffffff"/>
              </a:gs>
              <a:gs pos="100000">
                <a:srgbClr val="9cb88e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Albertus Medium"/>
              </a:rPr>
              <a:t>Jamaica’s Programme Concep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ITLE : ENHANCING THE RESILIENCE OF THE AGRICULTURE SECTOR AND COASTAL AREAS TO PROTECT LIVELIHOODS AND IMPROVE FOOD SECU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IOJ issued  “Calls for concept ideas” to agencies working in the priority areas identified under the Second National Commun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lls issued via letter in partnership with the Hazard Risk Reduction and Adaptation to Climate Change Thematic Working Group (TWG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riteria for selection includ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sponses reviewed by a technical review sub-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067680" cy="1143000"/>
          </a:xfrm>
          <a:prstGeom prst="rect">
            <a:avLst/>
          </a:prstGeom>
          <a:gradFill rotWithShape="0">
            <a:gsLst>
              <a:gs pos="0">
                <a:srgbClr val="9cb88e"/>
              </a:gs>
              <a:gs pos="50000">
                <a:srgbClr val="ffffff"/>
              </a:gs>
              <a:gs pos="100000">
                <a:srgbClr val="9cb88e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Albertus Medium"/>
              </a:rPr>
              <a:t>Jamaica’s Programme Concept – Participating Agenc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152280" y="1447920"/>
          <a:ext cx="8839440" cy="4844880"/>
        </p:xfrm>
        <a:graphic>
          <a:graphicData uri="http://schemas.openxmlformats.org/drawingml/2006/table">
            <a:tbl>
              <a:tblPr/>
              <a:tblGrid>
                <a:gridCol w="6096240"/>
                <a:gridCol w="1523880"/>
                <a:gridCol w="1219320"/>
              </a:tblGrid>
              <a:tr h="426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genc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ffili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mber of TW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7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sociation of Development Agencies (ADA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mbrella NG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7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nos Caribbe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G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7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ter Resources Authority (WRA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vern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03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nistry of Agriculture and Fisheries – National Irrigation Commission (NIC)  Rural Agricultural Development Authority (RADA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vern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36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tional Environment and Planning Agency (NEPA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vern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7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nistry of Healt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vern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7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nistry of Touris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vern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36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vironmental Management Division of the Office of the Prime Minist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vern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7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nning Institute of Jamaic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vern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36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ted Nations Development Programme Country Offi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 Agenc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Content Placeholder 3" descr=""/>
          <p:cNvPicPr/>
          <p:nvPr/>
        </p:nvPicPr>
        <p:blipFill>
          <a:blip r:embed="rId1"/>
          <a:stretch/>
        </p:blipFill>
        <p:spPr>
          <a:xfrm>
            <a:off x="457200" y="380880"/>
            <a:ext cx="8153280" cy="6248520"/>
          </a:xfrm>
          <a:prstGeom prst="rect">
            <a:avLst/>
          </a:prstGeom>
          <a:ln w="0">
            <a:noFill/>
          </a:ln>
        </p:spPr>
      </p:pic>
      <p:sp>
        <p:nvSpPr>
          <p:cNvPr id="56" name="TextBox 4"/>
          <p:cNvSpPr/>
          <p:nvPr/>
        </p:nvSpPr>
        <p:spPr>
          <a:xfrm>
            <a:off x="1447920" y="304920"/>
            <a:ext cx="7391160" cy="457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3"/>
          <p:cNvSpPr/>
          <p:nvPr/>
        </p:nvSpPr>
        <p:spPr>
          <a:xfrm>
            <a:off x="-27000" y="0"/>
            <a:ext cx="9171000" cy="1189080"/>
          </a:xfrm>
          <a:prstGeom prst="rect">
            <a:avLst/>
          </a:prstGeom>
          <a:gradFill rotWithShape="0">
            <a:gsLst>
              <a:gs pos="0">
                <a:srgbClr val="9cb88e"/>
              </a:gs>
              <a:gs pos="50000">
                <a:srgbClr val="ffffff"/>
              </a:gs>
              <a:gs pos="100000">
                <a:srgbClr val="9cb88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lbertus Medium"/>
              </a:rPr>
              <a:t>Geographical Set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067680" cy="1143000"/>
          </a:xfrm>
          <a:prstGeom prst="rect">
            <a:avLst/>
          </a:prstGeom>
          <a:gradFill rotWithShape="0">
            <a:gsLst>
              <a:gs pos="0">
                <a:srgbClr val="9cb88e"/>
              </a:gs>
              <a:gs pos="50000">
                <a:srgbClr val="ffffff"/>
              </a:gs>
              <a:gs pos="100000">
                <a:srgbClr val="9cb88e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Albertus Medium"/>
              </a:rPr>
              <a:t>Jamaica’s Programme Concep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Content Placeholder 2"/>
          <p:cNvSpPr/>
          <p:nvPr/>
        </p:nvSpPr>
        <p:spPr>
          <a:xfrm>
            <a:off x="228600" y="1600200"/>
            <a:ext cx="86868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gramme concept endorsed by AF Boar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ceived Project Preparation Grant of US$30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ed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parent Systems &amp; 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of IDPs is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to develop organizational goodwi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-disciplinary Approach is benefic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gradFill rotWithShape="0">
            <a:gsLst>
              <a:gs pos="0">
                <a:srgbClr val="9cb88e"/>
              </a:gs>
              <a:gs pos="50000">
                <a:srgbClr val="ffffff"/>
              </a:gs>
              <a:gs pos="100000">
                <a:srgbClr val="9cb88e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Albertus Medium"/>
              </a:rPr>
              <a:t>Lessons Lear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cb88e"/>
              </a:gs>
              <a:gs pos="50000">
                <a:srgbClr val="ffffff"/>
              </a:gs>
              <a:gs pos="100000">
                <a:srgbClr val="9cb88e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cc"/>
                </a:solidFill>
                <a:latin typeface="Albertus Medium"/>
              </a:rPr>
              <a:t>THE EN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http://islandbuzzjamaica.com/wp-content/uploads/2011/05/The-Rio-Grande-Jamaica.jpg"/>
          <p:cNvPicPr/>
          <p:nvPr/>
        </p:nvPicPr>
        <p:blipFill>
          <a:blip r:embed="rId1"/>
          <a:stretch/>
        </p:blipFill>
        <p:spPr>
          <a:xfrm>
            <a:off x="155520" y="-1355760"/>
            <a:ext cx="9658440" cy="8442360"/>
          </a:xfrm>
          <a:prstGeom prst="rect">
            <a:avLst/>
          </a:prstGeom>
          <a:ln w="0">
            <a:noFill/>
          </a:ln>
        </p:spPr>
      </p:pic>
      <p:sp>
        <p:nvSpPr>
          <p:cNvPr id="176" name="TextBox 2"/>
          <p:cNvSpPr/>
          <p:nvPr/>
        </p:nvSpPr>
        <p:spPr>
          <a:xfrm>
            <a:off x="4495680" y="2514600"/>
            <a:ext cx="3886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0" y="990720"/>
            <a:ext cx="9144000" cy="4572000"/>
          </a:xfrm>
          <a:prstGeom prst="rect">
            <a:avLst/>
          </a:prstGeom>
          <a:gradFill rotWithShape="0">
            <a:gsLst>
              <a:gs pos="0">
                <a:srgbClr val="9cb88e"/>
              </a:gs>
              <a:gs pos="50000">
                <a:srgbClr val="ffffff"/>
              </a:gs>
              <a:gs pos="100000">
                <a:srgbClr val="9cb88e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Programme Management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rawn from a wide cross section of stakeholders in the development field with particular reference to the priority areas identifie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mprises 10 members nominat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ir respective agenci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etermine proposal suitability and eligibil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s national pro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gradFill rotWithShape="0">
            <a:gsLst>
              <a:gs pos="0">
                <a:srgbClr val="9cb88e"/>
              </a:gs>
              <a:gs pos="50000">
                <a:srgbClr val="ffffff"/>
              </a:gs>
              <a:gs pos="100000">
                <a:srgbClr val="9cb88e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Albertus Medium"/>
              </a:rPr>
              <a:t>NIE Management Committe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vide administrative support to the Management Committee/Boar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ssue calls for propos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ndertake preliminary appraisal of proposals/concepts in accordance with AFB approved criteria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bmit approved proposals/concepts that meet the established criteria to the Committee/Bo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gradFill rotWithShape="0">
            <a:gsLst>
              <a:gs pos="0">
                <a:srgbClr val="9cb88e"/>
              </a:gs>
              <a:gs pos="50000">
                <a:srgbClr val="ffffff"/>
              </a:gs>
              <a:gs pos="100000">
                <a:srgbClr val="9cb88e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Albertus Medium"/>
              </a:rPr>
              <a:t>NIE Secretaria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3"/>
          <p:cNvSpPr/>
          <p:nvPr/>
        </p:nvSpPr>
        <p:spPr>
          <a:xfrm>
            <a:off x="0" y="274680"/>
            <a:ext cx="9144000" cy="1143000"/>
          </a:xfrm>
          <a:prstGeom prst="rect">
            <a:avLst/>
          </a:prstGeom>
          <a:gradFill rotWithShape="0">
            <a:gsLst>
              <a:gs pos="0">
                <a:srgbClr val="9cb88e"/>
              </a:gs>
              <a:gs pos="50000">
                <a:srgbClr val="ffffff"/>
              </a:gs>
              <a:gs pos="100000">
                <a:srgbClr val="9cb88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ecision Making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5"/>
          <p:cNvSpPr/>
          <p:nvPr/>
        </p:nvSpPr>
        <p:spPr>
          <a:xfrm>
            <a:off x="762120" y="167652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l for propos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6"/>
          <p:cNvSpPr/>
          <p:nvPr/>
        </p:nvSpPr>
        <p:spPr>
          <a:xfrm>
            <a:off x="1676520" y="2362320"/>
            <a:ext cx="304560" cy="761760"/>
          </a:xfrm>
          <a:prstGeom prst="downArrow">
            <a:avLst>
              <a:gd name="adj1" fmla="val 50000"/>
              <a:gd name="adj2" fmla="val 6253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7"/>
          <p:cNvSpPr/>
          <p:nvPr/>
        </p:nvSpPr>
        <p:spPr>
          <a:xfrm>
            <a:off x="380880" y="3124080"/>
            <a:ext cx="3353040" cy="838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plication review by Secretaria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8"/>
          <p:cNvSpPr/>
          <p:nvPr/>
        </p:nvSpPr>
        <p:spPr>
          <a:xfrm>
            <a:off x="762120" y="4876920"/>
            <a:ext cx="220968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mittal to M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9"/>
          <p:cNvSpPr/>
          <p:nvPr/>
        </p:nvSpPr>
        <p:spPr>
          <a:xfrm>
            <a:off x="3886200" y="4648320"/>
            <a:ext cx="266688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C Review &amp; Endors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0"/>
          <p:cNvSpPr/>
          <p:nvPr/>
        </p:nvSpPr>
        <p:spPr>
          <a:xfrm>
            <a:off x="6629400" y="3048120"/>
            <a:ext cx="220968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mission to AF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utoShape 11"/>
          <p:cNvSpPr/>
          <p:nvPr/>
        </p:nvSpPr>
        <p:spPr>
          <a:xfrm>
            <a:off x="1600200" y="3962520"/>
            <a:ext cx="380880" cy="838080"/>
          </a:xfrm>
          <a:prstGeom prst="downArrow">
            <a:avLst>
              <a:gd name="adj1" fmla="val 50000"/>
              <a:gd name="adj2" fmla="val 5500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12"/>
          <p:cNvSpPr/>
          <p:nvPr/>
        </p:nvSpPr>
        <p:spPr>
          <a:xfrm rot="219000">
            <a:off x="1903320" y="5724000"/>
            <a:ext cx="4178520" cy="532080"/>
          </a:xfrm>
          <a:custGeom>
            <a:avLst/>
            <a:gdLst>
              <a:gd name="textAreaLeft" fmla="*/ 731160 w 4178520"/>
              <a:gd name="textAreaRight" fmla="*/ 3029400 w 4178520"/>
              <a:gd name="textAreaTop" fmla="*/ 71280 h 532080"/>
              <a:gd name="textAreaBottom" fmla="*/ 460800 h 532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16"/>
          <p:cNvSpPr/>
          <p:nvPr/>
        </p:nvSpPr>
        <p:spPr>
          <a:xfrm>
            <a:off x="6705720" y="4419720"/>
            <a:ext cx="2133360" cy="838080"/>
          </a:xfrm>
          <a:custGeom>
            <a:avLst/>
            <a:gdLst>
              <a:gd name="textAreaLeft" fmla="*/ 0 w 2133360"/>
              <a:gd name="textAreaRight" fmla="*/ 1828800 w 2133360"/>
              <a:gd name="textAreaTop" fmla="*/ 558720 h 838080"/>
              <a:gd name="textAreaBottom" fmla="*/ 838440 h 83808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7200"/>
                </a:lnTo>
                <a:lnTo>
                  <a:pt x="12343" y="7200"/>
                </a:lnTo>
                <a:lnTo>
                  <a:pt x="12343" y="14400"/>
                </a:lnTo>
                <a:lnTo>
                  <a:pt x="0" y="14400"/>
                </a:lnTo>
                <a:lnTo>
                  <a:pt x="0" y="21600"/>
                </a:lnTo>
                <a:lnTo>
                  <a:pt x="18514" y="21600"/>
                </a:lnTo>
                <a:lnTo>
                  <a:pt x="18514" y="7200"/>
                </a:lnTo>
                <a:lnTo>
                  <a:pt x="21600" y="7200"/>
                </a:lnTo>
                <a:lnTo>
                  <a:pt x="15429" y="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1447920" y="1447560"/>
            <a:ext cx="76960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st island in the Caribbe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pography - highland interior with mountain ranges, limestone plateau and hills along the length of the island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1341360"/>
          </a:xfrm>
          <a:prstGeom prst="rect">
            <a:avLst/>
          </a:prstGeom>
          <a:gradFill rotWithShape="0">
            <a:gsLst>
              <a:gs pos="0">
                <a:srgbClr val="9cb88e"/>
              </a:gs>
              <a:gs pos="50000">
                <a:srgbClr val="ffffff"/>
              </a:gs>
              <a:gs pos="100000">
                <a:srgbClr val="9cb88e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Albertus Medium"/>
              </a:rPr>
              <a:t>Geographical Setting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14479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ior surrounded by flat and narrow coastal plains, less than 3.2 km (2 mile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interior plains with fertile soils; prime agricultural lands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tlands with mangrove forests along some of the coastal plains.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9cb88e"/>
              </a:gs>
              <a:gs pos="50000">
                <a:srgbClr val="ffffff"/>
              </a:gs>
              <a:gs pos="100000">
                <a:srgbClr val="9cb88e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Albertus Medium"/>
              </a:rPr>
              <a:t>Geographical Set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1371600"/>
          </a:xfrm>
          <a:prstGeom prst="rect">
            <a:avLst/>
          </a:prstGeom>
          <a:gradFill rotWithShape="0">
            <a:gsLst>
              <a:gs pos="0">
                <a:srgbClr val="9cb88e"/>
              </a:gs>
              <a:gs pos="50000">
                <a:srgbClr val="ffffff"/>
              </a:gs>
              <a:gs pos="100000">
                <a:srgbClr val="9cb88e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Albertus Medium"/>
              </a:rPr>
              <a:t>Sustainable Development Issu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jamaicasd"/>
          <p:cNvPicPr/>
          <p:nvPr/>
        </p:nvPicPr>
        <p:blipFill>
          <a:blip r:embed="rId1"/>
          <a:srcRect l="0" t="21424" r="0" b="15844"/>
          <a:stretch/>
        </p:blipFill>
        <p:spPr>
          <a:xfrm>
            <a:off x="685800" y="1828800"/>
            <a:ext cx="8458200" cy="43434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1723680" y="1752120"/>
            <a:ext cx="342252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c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vert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conom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ebted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ow grow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249520" y="1752120"/>
            <a:ext cx="342252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overn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itutional Capac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itoring and enforc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gradFill rotWithShape="0">
            <a:gsLst>
              <a:gs pos="0">
                <a:srgbClr val="9cb88e"/>
              </a:gs>
              <a:gs pos="50000">
                <a:srgbClr val="ffffff"/>
              </a:gs>
              <a:gs pos="100000">
                <a:srgbClr val="9cb88e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ain Sustainable Development Issue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" dur="2000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20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1T17:58:21Z</dcterms:created>
  <dc:creator>hpeterson</dc:creator>
  <dc:description/>
  <dc:language>en-US</dc:language>
  <cp:lastModifiedBy>User</cp:lastModifiedBy>
  <cp:lastPrinted>2011-11-08T20:49:55Z</cp:lastPrinted>
  <dcterms:modified xsi:type="dcterms:W3CDTF">2011-11-11T13:09:12Z</dcterms:modified>
  <cp:revision>68</cp:revision>
  <dc:subject/>
  <dc:title>Slide 1</dc:title>
</cp:coreProperties>
</file>