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B6AB-CFF5-47E7-A645-CF30AAB1F9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2E08-3792-43D8-ACF2-13204A994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A191-0DEB-43FA-BFD2-B954464F4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parties sont invitées à nommer une institution d’exécution nationa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■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 institutions d’exécution candidates présentent leur demande d’accréditation au Secrétari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■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Secrétariat examine les demandes d’accréditation et transmet les dossiers complets au Panel d’accrédi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■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Panel d’accréditation examine les dossiers de candidature et fait ses recommandations au Conseil ou invite les institutions à fournir un complément d’infor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■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 Conseil approuve l’accréditation ou invite les institutions à fournir des informations complémentair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■■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accréditation est valide pour une période de cinq 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DA2A-E24D-40DE-97FE-F7291686D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B7D-337B-4F70-9512-4BA60434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CAF-EDD6-4FEB-ACCE-AE23D23A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2BE-9EA3-430D-AF3E-3C873D26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88F-3BA6-4C69-BA07-AC834C96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68F8-4F0B-427E-97BE-6D952DB8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3786-69AF-40F4-B87C-1BFAEB7D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849C-BA0D-4413-A9E2-C668F924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083E-C396-4D53-8C33-BECE3605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1A6D-C2EA-4A25-8A54-73608707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B5D4-5325-4EAF-916B-7E716EBB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E051-B377-4BE6-B101-354895B9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79C-5176-4324-8A35-3BEF6D2C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6F92-AB52-4CC9-889E-608CF8F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A1EB-4EA7-4175-9354-4766C162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4457-49D4-4AE8-B8B3-74C67551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8408-B807-48A7-B504-DE5C0B9F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CB85-DF18-49CC-B09B-9BBE8474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F69-5ECE-4709-9608-FB9386AD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084-5A92-4D7D-80ED-9D773F1D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529-B45F-4052-850E-9D50FC47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56C-2945-40F7-B98A-F4268A4C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E2B-DE9A-4C26-81B7-7FB3ADE7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030-52B0-4AD3-89BA-4CFC4904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DFA-B02A-49A4-970F-83BA82FF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2D97-5112-4333-934C-4999A058C6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F2C7-580C-42C4-BB5D-7C24AA0C7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76320" y="5943600"/>
            <a:ext cx="182880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3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47AD-0F05-4852-8BAC-983F55E345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8D83-2EF5-4EAB-BAD6-6C73748D8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568600" cy="2303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SN" sz="4000" spc="-1" strike="noStrike">
                <a:solidFill>
                  <a:srgbClr val="000000"/>
                </a:solidFill>
                <a:latin typeface="Calibri"/>
              </a:rPr>
              <a:t>Vue d’ensemble du processus d’accréditation des Entités Nationales de Mise en Œuvr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0000"/>
                </a:solidFill>
                <a:latin typeface="Calibri"/>
              </a:rPr>
              <a:t>Atelier pour la Région Afrique sur le processus et les exigences pour l'accréditation des entités nationales de mise en œuv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f7f7f"/>
                </a:solidFill>
                <a:latin typeface="Calibri"/>
                <a:ea typeface="Arial"/>
              </a:rPr>
              <a:t>5 au 6 Septemb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f7f7f"/>
                </a:solidFill>
                <a:latin typeface="Calibri"/>
                <a:ea typeface="Arial"/>
              </a:rPr>
              <a:t>Saly, Sénég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33520" y="343080"/>
            <a:ext cx="4114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33"/>
                </a:solidFill>
                <a:latin typeface="Calibri"/>
              </a:rPr>
              <a:t>MERCI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07033"/>
                </a:solidFill>
                <a:latin typeface="Calibri"/>
              </a:rPr>
              <a:t>Panel d’accrédita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réé par le Conseil pour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eiller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ce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 les organisations bénéficiaires des ressources du Fonds pour l’adaptation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atisfassent aux normes fiduciair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et intégrité financiè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apacité institutionn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ransparence, aptitude à réaliser des audits internes et mesures de lutte contre la corru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Deux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mbres du Conseil (président, vice-président),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trois expert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dépend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onseil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upervis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les travaux du Pan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07033"/>
                </a:solidFill>
                <a:latin typeface="Calibri"/>
              </a:rPr>
              <a:t>Panel d’accréditation (2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Tâches des membr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xaminer les demandes d'accréditation des entités de mise en œuvr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selon les renseignements fournis entre autres dans le formulaire de deman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ans le cas où une demande n'est pas immédiatement approuvé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les considérations suivantes peuvent être pri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termination de la nécessité d'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xiger des renseignements supplémentair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u un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nouvelle soumission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 la demande d'une entité demandeur d'exécutio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termination de la nécessité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’une visite sur sit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 / ou d'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bservatio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 l'entité de mise en œuvre est nécessair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aire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ecommandations au Conseil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r les questions ci-dessus, le cas éché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07033"/>
                </a:solidFill>
                <a:latin typeface="Calibri"/>
              </a:rPr>
              <a:t>Panel d’accrédita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33"/>
                </a:solidFill>
                <a:latin typeface="Calibri"/>
              </a:rPr>
              <a:t>Le Processus d’Accrédita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10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torité Désignée endo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nomination d’une entité nationale de mise en œuvre (ENM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spcAft>
                <a:spcPts val="10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ENM nominé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ésentent au Secrétariat une demande d’accréditat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ompagnée des pièces justificatives attestant de leur application des normes fiduciaires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crétariat passe en revue la documentation fourni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s’assurer que toutes les informations nécessaires ont été fournies et reste en contact avec les institutions intéressées pour compléter leur dossier de candidature si nécessai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33"/>
                </a:solidFill>
                <a:latin typeface="Calibri"/>
              </a:rPr>
              <a:t>Le Processus d’Accréditation (2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1001"/>
              </a:spcAft>
              <a:buClr>
                <a:srgbClr val="00b05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crétaria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transmet 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ossie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candidature complet au Panel d’accréditation sou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15 (quinze) jour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uvrables après sa récep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spcAft>
                <a:spcPts val="1001"/>
              </a:spcAft>
              <a:buClr>
                <a:srgbClr val="00b05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ne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’accréditation procède à u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ame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sur dossier de la candidature et transmet s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ecommand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Conseil ; s’il a besoin d’informations complémentaires, un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ission et/ou une téléconférenc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ut être organisée avec le pays concerné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601"/>
              </a:spcBef>
              <a:spcAft>
                <a:spcPts val="1001"/>
              </a:spcAft>
              <a:buClr>
                <a:srgbClr val="00b05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ne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fait d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au Conseil sur 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ccrédit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l’accréditatio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ous condi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-accréditatio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selon le 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33"/>
                </a:solidFill>
                <a:latin typeface="Calibri"/>
              </a:rPr>
              <a:t>Le Processus d’Accréditation (3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 Conseil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e détermine et transmet sa 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écision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par écrit à l’entité concernée ; il peut décider que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(i)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l’entité requérante satisfait aux conditions prescrites et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ecommander son accréditation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; ou 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(ii)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l’entité requérant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oit remplir certaines condition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vant de se voir pleinement accrédité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spcAft>
                <a:spcPts val="1001"/>
              </a:spcAft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our le 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cas où l’ENM ne satisfait pas aux critères prescrit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une partie remplissant les critères d’admissibilité 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eut présenter sa demand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à nouveau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rès avoir répondu aux exigences du Consei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spcAft>
                <a:spcPts val="1001"/>
              </a:spcAft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accréditation est délivrée pour une période de 5 an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. Le Conseil préparera à l’intention des institutions de mise en œuvre des directives sur le renouvellement de leur accréditation selon des procédures simplifiées qui seront établies ultérieure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33"/>
                </a:solidFill>
                <a:latin typeface="Calibri"/>
              </a:rPr>
              <a:t>Le Processus d’Accréditation (4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1001"/>
              </a:spcAft>
              <a:buClr>
                <a:srgbClr val="00b050"/>
              </a:buClr>
              <a:buFont typeface="Calibri"/>
              <a:buAutoNum type="alphaL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Conseil se réserve l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roit d’évaluer la performance des ENM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à tout moment durant la période de validité de leur accréditation. Les entités devant faire l’objet de cette évaluation en seront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isé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par le Conseil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u moins six mois au préalab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spcAft>
                <a:spcPts val="1001"/>
              </a:spcAft>
              <a:buClr>
                <a:srgbClr val="00b050"/>
              </a:buClr>
              <a:buFont typeface="Calibri"/>
              <a:buAutoNum type="alphaL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Conseil peut aussi envisager d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uspendre ou d’annuler l’accréditation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’une ENM pour cause d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ausse déclaration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 de présentation intentionnelle d’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formations incomplèt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u Conseil, tant en vue de son accréditation qu’à la présentation des propositions de projets ou programm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b050"/>
              </a:buClr>
              <a:buFont typeface="Calibri"/>
              <a:buAutoNum type="alphaL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an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que le Conseil ne se prononce définitivement su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uspension ou l’annulation de l’accréditation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’une entité d’exécution, l’entité concernée aura, en toute équité,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ssibilité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 lui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résenter son point de vu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33"/>
                </a:solidFill>
                <a:latin typeface="Calibri"/>
              </a:rPr>
              <a:t>En Résumé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rcRect l="22223" t="12388" r="27782" b="38099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13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5867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43:07Z</dcterms:created>
  <dc:creator>Daouda Ndiaye</dc:creator>
  <dc:description/>
  <dc:language>en-US</dc:language>
  <cp:lastModifiedBy>Samer Dweik</cp:lastModifiedBy>
  <dcterms:modified xsi:type="dcterms:W3CDTF">2011-09-02T14:05:16Z</dcterms:modified>
  <cp:revision>41</cp:revision>
  <dc:subject/>
  <dc:title>Overview of accreditation process for National Implementing Entities</dc:title>
</cp:coreProperties>
</file>