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27E-82D9-4DD5-8F97-00AFBE8A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ACF-331F-4B2E-9960-99BBF1B6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401E-CA64-46E3-82B3-A6AFC057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5FB-A9C6-491D-81CB-463FCCF6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B7F-50E3-4E31-911E-F35A76FB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D3B-8B07-4C7D-918D-CCAD595A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7F17-9455-48B1-9406-6B704A70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903-C22F-4394-8141-75EA6B1F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8A3C-BD52-4686-85D8-083BAF6F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9CA-40A3-4818-8B6E-0BF85E7D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B03B-3270-4EC3-9462-901DC034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122-5ADD-493C-8C60-B9A493AB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E8C-36E3-4CB5-B711-5FE5364E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862-812E-473B-BFB5-FBDE108F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54B8-C157-45BC-B863-5F79DC3D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A80-FE1C-43C7-8B3A-F8289DBF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C8B4-F581-4AF8-97E7-6EEBC39D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EB6-3D53-4B72-9BB1-1A2A6A93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8FE-5BE0-4E58-96E4-A5F90A5B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ED1-F2E0-4A35-8915-699F4AB9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BF4-9145-49D3-8BFD-D6CD70E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396-6523-4FEF-A784-CF6EA639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74C-828F-4B2F-BD7B-9FFD7C6A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620-3892-4ACC-99A8-5174E334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927-05B6-4254-9E79-B1DB128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EAE-BA1C-4DD3-9046-E3C857F5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B29-8884-4BCA-BEA6-1D517300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DD3-5D6B-43BE-8B67-52348BC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EFD-438D-4952-B1A6-3F3D092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798-D730-4BE2-AAC6-0EB33A1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7C1-294F-49ED-9044-9943E4C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9168-EDB7-40D5-A2DC-AD5D557D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286000" y="1219320"/>
            <a:ext cx="601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Cambria Math"/>
                <a:ea typeface="Cambria Math"/>
              </a:rPr>
              <a:t>Protected Areas Conservation Trust’s (PACT) Accreditation by the Adaptation Fund Board: </a:t>
            </a:r>
            <a:r>
              <a:rPr b="1" lang="en-US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Our Experience</a:t>
            </a:r>
            <a:r>
              <a:rPr b="1" lang="en-US" sz="3600" spc="-1" strike="noStrike">
                <a:solidFill>
                  <a:srgbClr val="606060"/>
                </a:solidFill>
                <a:latin typeface="Cambria Math"/>
                <a:ea typeface="Cambria Math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971800" y="4495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rry Belisle (PAC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r. Colin Young (Government of Bel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Cambria Math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November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28600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ial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286000" y="1859040"/>
            <a:ext cx="6477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pproved Annual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view of budget vs. act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view of budget process an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udget management/ad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Extern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egislativ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e Committee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e Committee review (r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velopment of an internal aud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1886400" y="91440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ial Controls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895480" y="1523880"/>
            <a:ext cx="5105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ditional Contro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dependent  external eval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stitutional assessment – 5 years commissioned by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rant evaluations –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National Strategic PACT plan- 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362320" y="9907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ti -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209680" y="1600200"/>
            <a:ext cx="59436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idence of anti-corruption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view of all fraud cases in last five years    (Include minutes of mee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view of procedures address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flict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de of ethics / mis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pacity for self investigation and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oard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ffice of contractor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pacity to contract investigativ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6232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isk Mi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1752480"/>
            <a:ext cx="4647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CT Endow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vestment and use o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rant Programme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unterpart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zational capac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ogic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Stakeholder participation/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787760" y="106668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commendations from A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86000" y="1676520"/>
            <a:ext cx="6705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velopment of an internal audit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e committee charter has been adj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Risk management should be separate and focused part of various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opt policies to address wrongdoing/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ublic zero tolerance tone/internal contro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 capacity to investigate and address fra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061720" y="99072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eneral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1720800"/>
            <a:ext cx="65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xistence of policy is not assumed to  demonstrate proper execution or effectiveness (policy versus pract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dependent external review and public disclosures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Willingness to adjust and strengthen controls is necessary at the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cess requires extensive and detailed disclo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lose collaboration/feedback mechanism with AFB assigned advisor (informal feedback was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026800" y="114300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pt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286000" y="198108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ceed to access $30K from AFB to develop national adaptation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cal areas </a:t>
            </a:r>
            <a:r>
              <a:rPr b="0" i="1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ay</a:t>
            </a: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te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climate resilien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gramme with aligned with national adaption priorities and consultat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286000" y="1066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86000" y="1859040"/>
            <a:ext cx="640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ccreditation of PACT by the AFB is noteworthy for the following 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crease image of PACT glob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rings notable distinction to the region/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llows PACT to leverage addition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CT fiduciary management capabilities strength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proved national stakeholder confidence in PA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209680" y="10666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581280" y="198108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it us at…</a:t>
            </a:r>
            <a:r>
              <a:rPr b="1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www.pactbeliz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Users\KBelisle\Desktop\blue-hole-belize.jpg"/>
          <p:cNvPicPr/>
          <p:nvPr/>
        </p:nvPicPr>
        <p:blipFill>
          <a:blip r:embed="rId2"/>
          <a:stretch/>
        </p:blipFill>
        <p:spPr>
          <a:xfrm>
            <a:off x="3962520" y="2743200"/>
            <a:ext cx="34830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209680" y="144792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elize and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file of the 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Accreditation process/Time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at Accreditation means for 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ext Steps as 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 flipV="1" rot="10800000">
            <a:off x="2285640" y="747360"/>
            <a:ext cx="6553080" cy="9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elize and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mograph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 a SIDs, Belize very vulner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ffect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Largest Barrier reef in wes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emisphere (role in econom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26% of National territory prot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3% marine and 36% terrestr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 flipV="1" rot="10800000">
            <a:off x="2133720" y="827640"/>
            <a:ext cx="6705360" cy="85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ublic Trust dedicated to conservation and protected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stablished in 1996 as Statutory Body by Act of Parlia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overned by a 11 member Board of Directors; gover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inor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venues from a conservation fee and commission from cru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tourism head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rant program portfolio ( 10 grant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duciary Management services to other funding agenc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overnment of Be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lebrating 15 years of grant making- + $US11 million; +4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2666880" y="838080"/>
            <a:ext cx="62485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How PAC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191120" y="16765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ervation Fee (USD$3.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800600" y="20574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 of  Cruise Ship Passenger Head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26668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(investments, donations, fiduciary service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3809880" y="3352680"/>
            <a:ext cx="4476960" cy="1376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Areas Conservation 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6553080" y="5105520"/>
            <a:ext cx="245772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wment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657600" y="5562720"/>
            <a:ext cx="2590920" cy="361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1600200" y="556272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1676520" y="4572000"/>
            <a:ext cx="2457360" cy="50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2285640" y="5105520"/>
            <a:ext cx="5778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7600" y="5105520"/>
            <a:ext cx="11556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3581280" y="4419720"/>
            <a:ext cx="45720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6858000" y="4724280"/>
            <a:ext cx="34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45720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 flipH="1">
            <a:off x="4572000" y="289548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H="1">
            <a:off x="4191120" y="2286000"/>
            <a:ext cx="72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41911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3886200" y="19051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3886200" y="190512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286000" y="990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Process and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133720" y="1752480"/>
            <a:ext cx="6781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ctober 6 2009 </a:t>
            </a: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– AFB invitation to nominate 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pril 8 2010 </a:t>
            </a: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– AFB invitation to nominate Designat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uthority (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1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inistry of Natural Resources and Environment (MNRE) focal  point for UNFC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1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binet endorsed MNRE (CEO) as DA decision and PACT a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1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BZ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NIE identification and selection process relatively straightforward because of PACT’s credibility of good governance, transparency and accoun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821240" y="1066680"/>
            <a:ext cx="57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Process and Timeline c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286000" y="1676520"/>
            <a:ext cx="6400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ay 11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dorsement of PACT as 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June 22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rmal application by PACT to be 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July 11: 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rmal information request by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ug 9: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Teleconference with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p 19:</a:t>
            </a: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otification to PACT of accreditation by the AF Boar</a:t>
            </a:r>
            <a:r>
              <a:rPr b="0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Total time after endorsement = 3mon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09680" y="9907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ccreditation Process – ke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09680" y="1828800"/>
            <a:ext cx="65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 Control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Governance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CT ACT sections 11 and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oard of Director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Cambria Math"/>
              <a:buChar char="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inancial Control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External Audits and Management Let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ccounting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PACT-ppTemp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23623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09680" y="990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quir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057400" y="1676520"/>
            <a:ext cx="6858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Legal status and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udited Financials &amp; Management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reign funds handled over last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udit Committee Terms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ccounting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anuals (accounting, procurement, grant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8:52:24Z</dcterms:created>
  <dc:creator>Sharon</dc:creator>
  <dc:description/>
  <dc:language>en-US</dc:language>
  <cp:lastModifiedBy>Kerry Belisle</cp:lastModifiedBy>
  <dcterms:modified xsi:type="dcterms:W3CDTF">2011-11-11T20:10:02Z</dcterms:modified>
  <cp:revision>72</cp:revision>
  <dc:subject/>
  <dc:title>Slide 1</dc:title>
</cp:coreProperties>
</file>