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20880" y="7408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7E8C-75E9-47E5-A3F2-01CEA8EB5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A2BA-B84B-48EA-8198-63BFEE90F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0CA2-5F3A-4AC5-B419-22E2126C2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A8D9-5A0A-4D6C-820F-1A462A7D8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19E2-E593-48A7-9EB2-F672C4828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9FB5-8B2F-485A-914F-43EBA994F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PRC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âch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aminer et étudier les projets et programmes soumis au Conseil par les Parties éligibles, conformément au document de Politiques et Modalités Opérationnel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border les questions découlant de projets et programmes soumis au Conseil, y compris les questions politiques en suspen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ire un rapport et formuler des recommandations au Conseil sur l'approbation, l’annulation, la résiliation, la suspension de projets et programmes et sur ​​toute autre question dont il est saisi, 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aminer toute autre question que le Conseil juge appropri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a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spcAft>
                <a:spcPts val="601"/>
              </a:spcAft>
              <a:buClr>
                <a:srgbClr val="007033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33"/>
                </a:solidFill>
                <a:latin typeface="Calibri"/>
              </a:rPr>
              <a:t>Supervis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la mise en œuvre du Code de conduite et régler les questions liées aux différences dans l'interprétation ainsi qu’aux conséquences de la violation du Code de condu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spcAft>
                <a:spcPts val="601"/>
              </a:spcAft>
              <a:buClr>
                <a:srgbClr val="007033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33"/>
                </a:solidFill>
                <a:latin typeface="Calibri"/>
              </a:rPr>
              <a:t>Examin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et fournir des conseils sur le budget pour les frais de fonctionnement du Conseil, du secrétariat et de l‘administrateur du Fon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spcAft>
                <a:spcPts val="601"/>
              </a:spcAft>
              <a:buClr>
                <a:srgbClr val="007033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33"/>
                </a:solidFill>
                <a:latin typeface="Calibri"/>
              </a:rPr>
              <a:t>Inform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le Conseil sur la politique et l’approche globales de mobilisation des ressources, y compris les recommandations par l’administrateur du Fonds sur la monétisation des URCE et la réception des contributions provenant d'autres sour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spcAft>
                <a:spcPts val="601"/>
              </a:spcAft>
              <a:buClr>
                <a:srgbClr val="007033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33"/>
                </a:solidFill>
                <a:latin typeface="Calibri"/>
              </a:rPr>
              <a:t>Examin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les états financiers du Fond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spcAft>
                <a:spcPts val="601"/>
              </a:spcAft>
              <a:buClr>
                <a:srgbClr val="007033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33"/>
                </a:solidFill>
                <a:latin typeface="Calibri"/>
              </a:rPr>
              <a:t>Examin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la performance du Fonds et des ENM et EMM, faisant usage des évaluations internes et externes et des rapports des ENM, EMM et d'autres sources, le cas échéa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spcAft>
                <a:spcPts val="601"/>
              </a:spcAft>
              <a:buClr>
                <a:srgbClr val="007033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33"/>
                </a:solidFill>
                <a:latin typeface="Calibri"/>
              </a:rPr>
              <a:t>Trait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questions concernant le suivi et l'évaluation des projets et programm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spcAft>
                <a:spcPts val="601"/>
              </a:spcAft>
              <a:buClr>
                <a:srgbClr val="007033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33"/>
                </a:solidFill>
                <a:latin typeface="Calibri"/>
              </a:rPr>
              <a:t>Supervis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les activités du Secrétariat concernant le recrutement et les achats de services et autres activités relevant du domaine de responsabilité du Comité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spcAft>
                <a:spcPts val="601"/>
              </a:spcAft>
              <a:buClr>
                <a:srgbClr val="007033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33"/>
                </a:solidFill>
                <a:latin typeface="Calibri"/>
              </a:rPr>
              <a:t>Supervis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les activités de l’administrateur dans les domaines relevant de la responsabilité du Comité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spcAft>
                <a:spcPts val="601"/>
              </a:spcAft>
              <a:buClr>
                <a:srgbClr val="007033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33"/>
                </a:solidFill>
                <a:latin typeface="Calibri"/>
              </a:rPr>
              <a:t>Examin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toute autre question que le conseil juge approprié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9853-D850-456A-96C0-CA01B4621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75FB-2D72-475C-B67A-A0A32D756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D0DE-D477-46D7-81F4-8E0341CD8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7D76-6666-4DE0-9110-6115860FF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7ED-12B5-48CF-A756-32D555B6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EBF-EC5B-4743-8CB5-DCE48BC0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8A1-54E0-4B7B-941E-69881464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872-4CCD-40C1-8443-B7F359D5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E230-0038-40EC-84BF-BC1BC110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B8D6-BE8B-40B3-BA3F-36D764B1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3420-EB6E-4938-A4E6-AFA81242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287D-B396-47D3-B2C1-C5915CD7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516D-C667-483B-AA2C-F6D3445A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4E82-9D03-4C1F-9C2B-3231ADC1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4D22-E278-46FD-AE7D-5598009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CA0-60B8-401C-9164-7842499F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FD63-ED5E-407A-A8C1-4E6AE98F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C80D-4872-48A2-9475-FAB256AC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7869-3902-4533-BA46-B2F072E1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E389-DE3E-48AD-9214-CC5EFFF2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4FE4-7D7C-4742-B3DD-0222FD09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65B-4E5F-4CC3-8256-8ED08BDC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C7A-20CA-4653-917A-1920EEBB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F43-699E-4976-BA3D-C39F75CD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22D-6678-4E54-A261-91494789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C43-2151-40DA-A1B5-31AAC01F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CF9-8AA1-4684-9FA8-4FE4B27B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2AE-1FBF-4DD4-98CC-1C90F5D8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F0A8-6E12-40E2-8DDB-AF7F3E09B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76320" y="5943600"/>
            <a:ext cx="182880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3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C1B3-6022-4EED-82D8-658A04570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254400" cy="2919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2590560"/>
            <a:ext cx="71625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Accès aux ressources du Fonds pour l’Adap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Atelier pour la Région Afrique sur le processus et les exigences pour l'accréditation des entités nationales de mise en œuv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f7f7f"/>
                </a:solidFill>
                <a:latin typeface="Calibri"/>
                <a:ea typeface="Arial"/>
              </a:rPr>
              <a:t>5 au 6 Septem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f7f7f"/>
                </a:solidFill>
                <a:latin typeface="Calibri"/>
                <a:ea typeface="Arial"/>
              </a:rPr>
              <a:t>Saly, Séné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33520" y="343080"/>
            <a:ext cx="476244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33"/>
                </a:solidFill>
                <a:latin typeface="Calibri"/>
              </a:rPr>
              <a:t>Accès aux ressources du Fonds pour l’adaptation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7033"/>
                </a:solidFill>
                <a:latin typeface="Calibri"/>
              </a:rPr>
              <a:t>Les EM doivent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Satisfaire aux les normes 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fiduciaires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établies par le Conseil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gestion et intégrité financiè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apacité institutionn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transparence, aptitude à réaliser des audits internes et mesures de lutte contre la corru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Assumer l’entière responsabilité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e la 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gestion globale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es projets et programmes ; 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’acquitter de 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fonctions financières, assurer un travail de suivi et établir les rapports nécessaire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SN" sz="5400" spc="-1" strike="noStrike">
                <a:solidFill>
                  <a:srgbClr val="007033"/>
                </a:solidFill>
                <a:latin typeface="Calibri"/>
              </a:rPr>
              <a:t>Priorités stratég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ppuyer les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riorités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définies par et pour les pays en développement en matière d’adaptat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ompatibilité avec les stratégies nationales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de développement, de lutte contre la pauvreté et d’adaptation au changement climatiqu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rise en compte des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orientations scientifiques et politiques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isponi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rise en compte des besoins spécifiques des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ommunautés les plus vulnér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 Fonds pour l’adapt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aide les pays en développement qui sont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arties au Protocole de Kyoto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et sont particulièrement exposés aux effets néfastes du changement climatique à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supporter les coûts de l’adaptation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finance le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oût intégral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es projets et programmes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oncrets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d’adaptation impulsés par les pays et reposant sur les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besoins, vues et priorités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es Parties pouvant se prévaloir de son aid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itle 1"/>
          <p:cNvSpPr/>
          <p:nvPr/>
        </p:nvSpPr>
        <p:spPr>
          <a:xfrm>
            <a:off x="380880" y="152280"/>
            <a:ext cx="8534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33"/>
                </a:solidFill>
                <a:latin typeface="Calibri"/>
              </a:rPr>
              <a:t>Quelques principes régissant les fin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33"/>
                </a:solidFill>
                <a:latin typeface="Calibri"/>
              </a:rPr>
              <a:t>Quelques principes régissant les financement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Un projet / programme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concre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’adaptation est défini comme un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ensemble d'activités visant à remédier aux effets néfaste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es et aux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risqu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posés par les changements climatiqu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s activités visent à produire un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impact tangible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ur le terrain en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réduisant la vulnérabilité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augmenter la capacité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'adaptation des pays Partie à répondre aux impacts du changement climatique, y compris la variabilité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33"/>
                </a:solidFill>
                <a:latin typeface="Calibri"/>
              </a:rPr>
              <a:t>Quelques principes régissant les financements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projets d'adaptation peuvent être mis en œuvre au niveau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ommunautaire, national et transfronti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Les projets concernent des activités distinctes avec un (des) objectif(s) collectif (s) et des résultats concrets qui sont plus étroitement définis dans la portée, l'espace et du tem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gramme d'adaptation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st un processus, un plan ou une approche pour aborder les impacts du changement climatique qui est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lus large que la portée d'un projet individuel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33"/>
                </a:solidFill>
                <a:latin typeface="Calibri"/>
              </a:rPr>
              <a:t>État des lieux: Fi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52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ds alloués au 30 Juin 2011 :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66,1 millions de doll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lnSpc>
                <a:spcPct val="11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rties Annexe-I ont fourni un financement supplémentaire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spagn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€ 45M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Monaco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0k €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Allemagn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0M €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Suèd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K100M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ustrali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U $ 15M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Région Bruxelles-Capital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M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lnSpc>
                <a:spcPct val="11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144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essources financières disponi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u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30 Juin 2011 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2000" spc="-1" strike="noStrike">
                <a:solidFill>
                  <a:srgbClr val="007033"/>
                </a:solidFill>
                <a:latin typeface="Calibri"/>
              </a:rPr>
              <a:t>171,6 millions de doll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Hypothèses à fin 2012 :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édiane :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2000" spc="-1" strike="noStrike">
                <a:solidFill>
                  <a:srgbClr val="007033"/>
                </a:solidFill>
                <a:latin typeface="Calibri"/>
              </a:rPr>
              <a:t>373 millions de dollars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basse : 315 millions ; haute : 440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33"/>
                </a:solidFill>
                <a:latin typeface="Calibri"/>
              </a:rPr>
              <a:t>Où en sommes nous? </a:t>
            </a:r>
            <a:br>
              <a:rPr sz="4000"/>
            </a:br>
            <a:r>
              <a:rPr b="1" lang="fr-FR" sz="4000" spc="-1" strike="noStrike">
                <a:solidFill>
                  <a:srgbClr val="007033"/>
                </a:solidFill>
                <a:latin typeface="Calibri"/>
              </a:rPr>
              <a:t>Entités de Mise en Œuvr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4 entités nationales de mise en œuvre accréditées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entre de suivi écologique (Sénég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Planning Institute of Jamaica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(Jamaïqu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Calibri"/>
              </a:rPr>
              <a:t>Agencia Nacional de Investigación e Innovación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(Urugua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onds National pour l’Environnement (Bén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c00000"/>
                </a:solidFill>
                <a:latin typeface="Calibri"/>
              </a:rPr>
              <a:t>South African National Biodiversity Institute </a:t>
            </a:r>
            <a:r>
              <a:rPr b="0" lang="fr-FR" sz="2200" spc="-1" strike="noStrike">
                <a:solidFill>
                  <a:srgbClr val="c00000"/>
                </a:solidFill>
                <a:latin typeface="Calibri"/>
              </a:rPr>
              <a:t>(SANBI) a été recommandé pour accrédi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8 entités multilatérales de mise en œuvre accréditées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Banque mondiale, PNUD, PNUE, BAD, FIDA, PAM, OMM, BI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1 entité régionale de mise en œuvre accrédité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Banque Ouest-Africaine de Développement (BOA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41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33"/>
                </a:solidFill>
                <a:latin typeface="Calibri"/>
              </a:rPr>
              <a:t>Projets par R</a:t>
            </a:r>
            <a:r>
              <a:rPr b="1" lang="fr-FR" sz="5000" spc="-1" strike="noStrike">
                <a:solidFill>
                  <a:srgbClr val="007033"/>
                </a:solidFill>
                <a:latin typeface="Calibri"/>
              </a:rPr>
              <a:t>é</a:t>
            </a:r>
            <a:r>
              <a:rPr b="1" lang="en-US" sz="5000" spc="-1" strike="noStrike">
                <a:solidFill>
                  <a:srgbClr val="007033"/>
                </a:solidFill>
                <a:latin typeface="Calibri"/>
              </a:rPr>
              <a:t>g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2917" t="17778" r="25417" b="11111"/>
          <a:stretch/>
        </p:blipFill>
        <p:spPr>
          <a:xfrm>
            <a:off x="0" y="1219320"/>
            <a:ext cx="9147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33"/>
                </a:solidFill>
                <a:latin typeface="Calibri"/>
              </a:rPr>
              <a:t>Projets approuvés par secteur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7033"/>
                </a:solidFill>
                <a:latin typeface="Calibri"/>
              </a:rPr>
              <a:t>Concepts approuvés par secteur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07033"/>
                </a:solidFill>
                <a:latin typeface="Calibri"/>
              </a:rPr>
              <a:t>Le Fonds pour l’adapta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7033"/>
                </a:solidFill>
                <a:latin typeface="Calibri"/>
              </a:rPr>
              <a:t>Un mécanisme financier innovant 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Organe directeur :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présentation équitable et équilibrée des Parties au Protocole de Kyo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Accès direct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es pays remplissant les conditions d’admissibilité aux ressources du F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Nouvelle source de financement :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lèvement de 2 % du produit de la vente des URCE délivrées par le MD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rcRect l="26667" t="18520" r="16667" b="9631"/>
          <a:stretch/>
        </p:blipFill>
        <p:spPr>
          <a:xfrm>
            <a:off x="838080" y="1219320"/>
            <a:ext cx="7620120" cy="56386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33"/>
                </a:solidFill>
                <a:latin typeface="Calibri"/>
              </a:rPr>
              <a:t>MERCI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07033"/>
                </a:solidFill>
                <a:latin typeface="Calibri"/>
              </a:rPr>
              <a:t>Dispositifs institutionnels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ecrétaria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FEM, à titre provis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dministrat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Banque mondiale, à titre provis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Parties au Protocole de Kyoto ont décidé de réexaminer les dispositifs institutionnels provisoires en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1219320" y="3962520"/>
            <a:ext cx="914400" cy="914400"/>
          </a:xfrm>
          <a:prstGeom prst="ellipse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Réunion des  Par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1219320" y="5181480"/>
            <a:ext cx="914400" cy="990720"/>
          </a:xfrm>
          <a:prstGeom prst="ellipse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alibri"/>
              </a:rPr>
              <a:t>Conse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ght Arrow 11"/>
          <p:cNvSpPr/>
          <p:nvPr/>
        </p:nvSpPr>
        <p:spPr>
          <a:xfrm>
            <a:off x="2666880" y="5181480"/>
            <a:ext cx="9907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ght Arrow 12"/>
          <p:cNvSpPr/>
          <p:nvPr/>
        </p:nvSpPr>
        <p:spPr>
          <a:xfrm>
            <a:off x="1676520" y="4800600"/>
            <a:ext cx="46080" cy="76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own Arrow 13"/>
          <p:cNvSpPr/>
          <p:nvPr/>
        </p:nvSpPr>
        <p:spPr>
          <a:xfrm>
            <a:off x="1676520" y="4800600"/>
            <a:ext cx="46080" cy="304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ight Arrow 20"/>
          <p:cNvSpPr/>
          <p:nvPr/>
        </p:nvSpPr>
        <p:spPr>
          <a:xfrm>
            <a:off x="2666880" y="5791320"/>
            <a:ext cx="990720" cy="75960"/>
          </a:xfrm>
          <a:prstGeom prst="rightArrow">
            <a:avLst>
              <a:gd name="adj1" fmla="val 50000"/>
              <a:gd name="adj2" fmla="val 50178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3886200" y="4876920"/>
            <a:ext cx="3429000" cy="457200"/>
          </a:xfrm>
          <a:prstGeom prst="rect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Secrétariat (FEM, à titre proviso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886200" y="5638680"/>
            <a:ext cx="3505320" cy="381240"/>
          </a:xfrm>
          <a:prstGeom prst="rect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Administrateur (Banque mondiale, à titre proviso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300" spc="-1" strike="noStrike">
                <a:solidFill>
                  <a:srgbClr val="007033"/>
                </a:solidFill>
                <a:latin typeface="Calibri"/>
              </a:rPr>
              <a:t>Organe directeur : Conseil du Fonds pour l’adaptation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2200" spc="-1" strike="noStrike">
                <a:solidFill>
                  <a:srgbClr val="007033"/>
                </a:solidFill>
                <a:latin typeface="Calibri"/>
              </a:rPr>
              <a:t>Conseil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compte </a:t>
            </a:r>
            <a:r>
              <a:rPr b="1" lang="fr-FR" sz="2200" spc="-1" strike="noStrike">
                <a:solidFill>
                  <a:srgbClr val="007033"/>
                </a:solidFill>
                <a:latin typeface="Calibri"/>
              </a:rPr>
              <a:t>16 membres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t leurs </a:t>
            </a:r>
            <a:r>
              <a:rPr b="1" lang="fr-FR" sz="2200" spc="-1" strike="noStrike">
                <a:solidFill>
                  <a:srgbClr val="007033"/>
                </a:solidFill>
                <a:latin typeface="Calibri"/>
              </a:rPr>
              <a:t>suppléants,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qui représentent les Par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7033"/>
                </a:solidFill>
                <a:latin typeface="Calibri"/>
              </a:rPr>
              <a:t>Capacité juridique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onférée par l’Allemagne en février 2011 : permet au Fonds de conclure des accords avec des entités de mise en œuv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7033"/>
                </a:solidFill>
                <a:latin typeface="Calibri"/>
              </a:rPr>
              <a:t>Organes subsidiair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omité d’examen des projets et program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omité d’éthique et des finan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anel d’accrédit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Principales d</a:t>
            </a:r>
            <a:r>
              <a:rPr b="1" lang="fr-FR" sz="4400" spc="-1" strike="noStrike">
                <a:solidFill>
                  <a:srgbClr val="007033"/>
                </a:solidFill>
                <a:latin typeface="Calibri"/>
              </a:rPr>
              <a:t>é</a:t>
            </a: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c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699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doption des documents stratégiques suiva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pproche de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Gestion Axée sur les Résultat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GAR) et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adre de Résultats Stratégiqu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1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adre de S &amp; 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directives d'évaluation fi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1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Guid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sur les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ituations de référenc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les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adres de résultat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proj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1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029" sz="2400" spc="-1" strike="noStrike">
                <a:solidFill>
                  <a:srgbClr val="000000"/>
                </a:solidFill>
                <a:latin typeface="Calibri"/>
              </a:rPr>
              <a:t>Cadre stratégique de </a:t>
            </a:r>
            <a:r>
              <a:rPr b="1" i="1" lang="fr-029" sz="2400" spc="-1" strike="noStrike">
                <a:solidFill>
                  <a:srgbClr val="000000"/>
                </a:solidFill>
                <a:latin typeface="Calibri"/>
              </a:rPr>
              <a:t>gestion des connaiss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Principales d</a:t>
            </a:r>
            <a:r>
              <a:rPr b="1" lang="fr-FR" sz="4400" spc="-1" strike="noStrike">
                <a:solidFill>
                  <a:srgbClr val="007033"/>
                </a:solidFill>
                <a:latin typeface="Calibri"/>
              </a:rPr>
              <a:t>é</a:t>
            </a:r>
            <a:r>
              <a:rPr b="1" lang="en-US" sz="4400" spc="-1" strike="noStrike">
                <a:solidFill>
                  <a:srgbClr val="007033"/>
                </a:solidFill>
                <a:latin typeface="Calibri"/>
              </a:rPr>
              <a:t>cision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pprobation d’un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Code de Conduit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le Conseil du Fon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Frais de gestion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entités de mise en œuvre : plafond fixé à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8,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Frais d'exécution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 projets / programmes: plafond fixé à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9,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Finance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 Projet / programme pour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chaque pay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: plafond fixé à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10 millions dollars américains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07033"/>
                </a:solidFill>
                <a:latin typeface="Calibri"/>
              </a:rPr>
              <a:t>Panel d’accrédita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réé par le Conseil pour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eiller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ce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 les organisations bénéficiaires des ressources du Fonds pour l’adaptation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atisfassent aux normes fiduciair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ait des recommandations au Conseil sur l’accréditation, l’accréditation sous condition, la suspension ou l’annulation de l’accréditation, ainsi que la ré-accrédi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Deux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mbres du Conseil (président, vice-président),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trois expert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dépend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onseil supervise les travaux du Pan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Panel est devenu opérationnel en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janvier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33"/>
                </a:solidFill>
                <a:latin typeface="Calibri"/>
              </a:rPr>
              <a:t>Accès aux ressources du Fonds pour l’adap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7033"/>
                </a:solidFill>
                <a:latin typeface="Calibri"/>
              </a:rPr>
              <a:t>Modalités d’accès dir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rties remplissant les conditions d’admissibilité peuvent soumettre 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directement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leurs projets au Conseil 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par l’entremise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’une entité nationale de mise en œuvre (ENM) 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accrédité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7033"/>
                </a:solidFill>
                <a:latin typeface="Calibri"/>
              </a:rPr>
              <a:t>Modalité d’accès par les E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n groupe de Parties peut aussi désigner des 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entités régionales et sous-régionales (ERM)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n qualité d’entités de mise en œuvre  en lieu et place des EN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7033"/>
                </a:solidFill>
                <a:latin typeface="Calibri"/>
              </a:rPr>
              <a:t>Modalité d’accès par les EM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Parties peuvent soumettre leurs projets par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’entremise d’une entité multilatérale de mise en œuvre (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EMM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accrédité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33"/>
                </a:solidFill>
                <a:latin typeface="Calibri"/>
              </a:rPr>
              <a:t>Accès aux ressources du Fonds pour l’adaptation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842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4:29:12Z</dcterms:created>
  <dc:creator>Daouda</dc:creator>
  <dc:description>Generic presentation on the Adaptation Fund.</dc:description>
  <dc:language>en-US</dc:language>
  <cp:lastModifiedBy>Daouda Ndiaye</cp:lastModifiedBy>
  <dcterms:modified xsi:type="dcterms:W3CDTF">2011-08-26T19:22:54Z</dcterms:modified>
  <cp:revision>799</cp:revision>
  <dc:subject>Adaptation Fund presentation</dc:subject>
  <dc:title>The Adaptation Fund</dc:title>
</cp:coreProperties>
</file>