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E512-1483-40FE-B8BD-C83DB38F3D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20880" y="7408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0C09-F5AA-45F5-8D8D-177B005E1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CFF4-5C5E-494C-AF7C-61D0076C2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E308-D7E6-45B1-ADFF-8E7BFFD8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C1F-7727-485B-BE92-5669591F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4605-95A7-4A0F-A281-EDEDE25D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139E-1879-46AB-8E1C-7A5320D1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E471-A92E-4337-9D1A-5F8FCA6F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D167-EA0A-41D5-B140-4B2B7FDC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BB98-210A-465D-B13A-7123A4DC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35ED-3F49-4E83-8CCE-A3181697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E0A6-CB21-466C-A3F1-D21D48F7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2E5D-181D-4387-83DA-C1A7D26A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D7D0-8A4C-40D2-AA84-E013A82A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7B9-3CCE-4D3F-9FCD-5B382219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C500-039B-407A-9A64-63AC25BA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67AE-B8CB-4B79-AB9C-DD2598ED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7056-3C8E-4F72-BD3C-F93E61E3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3755-2EE4-46FC-AA21-9E31DD60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7023-38BD-43FA-AF3C-FDB250AA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AA3-1059-4B29-8D17-600147D4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0C7-DD35-466A-A9B4-A40CB0A2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8E1-3F67-4893-8A9A-584B6C44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97D-37B2-4260-B1F0-D2EEE6C5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53FA-89BF-4F92-A02F-F0C4772E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9922-B1E9-4D8A-8F60-0F3ED055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6C1-B555-4BF3-B2C1-956F6670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E35F-4851-4537-8B2E-E872B89C56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B64E-E7C5-4250-8A90-B7B379228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76320" y="5943600"/>
            <a:ext cx="1828800" cy="80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"/>
          <p:cNvPicPr/>
          <p:nvPr/>
        </p:nvPicPr>
        <p:blipFill>
          <a:blip r:embed="rId3"/>
          <a:srcRect l="22223" t="12388" r="27782" b="38099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B7DF-C64A-4A60-B5E9-7C881AD5D3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118C-A340-4934-9AB6-54A310316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3254400" cy="2919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90720" y="2590560"/>
            <a:ext cx="71625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533520" y="343080"/>
            <a:ext cx="4762440" cy="20952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0" y="28954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Arial"/>
              </a:rPr>
              <a:t>AF Project Cycle </a:t>
            </a:r>
            <a:br>
              <a:rPr sz="4000"/>
            </a:br>
            <a:r>
              <a:rPr b="1" lang="en-US" sz="4000" spc="-1" strike="noStrike">
                <a:solidFill>
                  <a:srgbClr val="007033"/>
                </a:solidFill>
                <a:latin typeface="Arial"/>
              </a:rPr>
              <a:t>and Approval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Arial"/>
              </a:rPr>
              <a:t>Saly, Seneg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Arial"/>
              </a:rPr>
              <a:t>5</a:t>
            </a:r>
            <a:r>
              <a:rPr b="1" lang="en-US" sz="4000" spc="-1" strike="noStrike" baseline="30000">
                <a:solidFill>
                  <a:srgbClr val="007033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7033"/>
                </a:solidFill>
                <a:latin typeface="Arial"/>
              </a:rPr>
              <a:t> &amp; 6</a:t>
            </a:r>
            <a:r>
              <a:rPr b="1" lang="en-US" sz="4000" spc="-1" strike="noStrike" baseline="30000">
                <a:solidFill>
                  <a:srgbClr val="007033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7033"/>
                </a:solidFill>
                <a:latin typeface="Arial"/>
              </a:rPr>
              <a:t> Sept,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Project Concept Required Content (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 Justification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ject / programme consistence with national sustainable development strategies, national development plans, poverty reduction strategies, national communications or adaptation programs of action, and other relevant instr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ject / programme meets the relevant national technical standards: EIA, building c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52280" y="5867280"/>
            <a:ext cx="1981440" cy="871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" descr=""/>
          <p:cNvPicPr/>
          <p:nvPr/>
        </p:nvPicPr>
        <p:blipFill>
          <a:blip r:embed="rId2"/>
          <a:srcRect l="22223" t="12388" r="27782" b="38099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41" name="Straight Connector 21"/>
          <p:cNvSpPr/>
          <p:nvPr/>
        </p:nvSpPr>
        <p:spPr>
          <a:xfrm>
            <a:off x="1905120" y="6400800"/>
            <a:ext cx="635796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Project Concept Required Content (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 Justification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ject does not duplicate / overlap with activities funded through other funding 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ject / programme has a learning and knowledge management component to capture and feedback les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ject / programme has been developed through a consultative process involving all stakeholders, including vulnerable communit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wo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52280" y="5867280"/>
            <a:ext cx="1981440" cy="871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" descr=""/>
          <p:cNvPicPr/>
          <p:nvPr/>
        </p:nvPicPr>
        <p:blipFill>
          <a:blip r:embed="rId2"/>
          <a:srcRect l="22223" t="12388" r="27782" b="38099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46" name="Straight Connector 21"/>
          <p:cNvSpPr/>
          <p:nvPr/>
        </p:nvSpPr>
        <p:spPr>
          <a:xfrm>
            <a:off x="1905120" y="6400800"/>
            <a:ext cx="635796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Project Concept Required Content (6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 Justification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ject / programme provides justification for the funding requested on the basis of the full cost of adap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ject / programme aligned with the AF results frame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stainability of the project/programme outcomes taken into account when desig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52280" y="5867280"/>
            <a:ext cx="1981440" cy="871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" descr=""/>
          <p:cNvPicPr/>
          <p:nvPr/>
        </p:nvPicPr>
        <p:blipFill>
          <a:blip r:embed="rId2"/>
          <a:srcRect l="22223" t="12388" r="27782" b="38099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21"/>
          <p:cNvSpPr/>
          <p:nvPr/>
        </p:nvSpPr>
        <p:spPr>
          <a:xfrm>
            <a:off x="1905120" y="6400800"/>
            <a:ext cx="635796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33"/>
                </a:solidFill>
                <a:latin typeface="Calibri"/>
              </a:rPr>
              <a:t>Full Proposal Additional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Arrang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equate arrangements for projec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s for financial and project 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rangements for monitoring and evaluation clearly defined, including a budgeted M&amp;E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ject results framework included. Relevant targets and indicators disaggregat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by g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52280" y="5867280"/>
            <a:ext cx="1981440" cy="87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" descr=""/>
          <p:cNvPicPr/>
          <p:nvPr/>
        </p:nvPicPr>
        <p:blipFill>
          <a:blip r:embed="rId2"/>
          <a:srcRect l="22223" t="12388" r="27782" b="38099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21"/>
          <p:cNvSpPr/>
          <p:nvPr/>
        </p:nvSpPr>
        <p:spPr>
          <a:xfrm>
            <a:off x="1905120" y="6400800"/>
            <a:ext cx="635796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Provisions on project budg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quested project funding must be within the cap of the country: currently USD 10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mplementing Entity management fee must be at or below 8.5 per cent of the total project/ programme budget before the f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/programme execution costs must be at or below 9.5 per cent of the total project/ programme budget before the f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2280" y="5867280"/>
            <a:ext cx="1981440" cy="871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" descr=""/>
          <p:cNvPicPr/>
          <p:nvPr/>
        </p:nvPicPr>
        <p:blipFill>
          <a:blip r:embed="rId2"/>
          <a:srcRect l="22223" t="12388" r="27782" b="38099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61" name="Straight Connector 21"/>
          <p:cNvSpPr/>
          <p:nvPr/>
        </p:nvSpPr>
        <p:spPr>
          <a:xfrm>
            <a:off x="1905120" y="6400800"/>
            <a:ext cx="635796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33"/>
                </a:solidFill>
                <a:latin typeface="Calibri"/>
              </a:rPr>
              <a:t>Important steps </a:t>
            </a:r>
            <a:br>
              <a:rPr sz="4400"/>
            </a:br>
            <a:r>
              <a:rPr b="1" lang="en-US" sz="4400" spc="-1" strike="noStrike">
                <a:solidFill>
                  <a:srgbClr val="007033"/>
                </a:solidFill>
                <a:latin typeface="Calibri"/>
              </a:rPr>
              <a:t>in project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ing adequate information about the adaptation challenge and other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ing alignment with national strategies and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ing overlap with other similar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ing alignment with AF results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equate consultations with vulnerable communities and women (for full propos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52280" y="5867280"/>
            <a:ext cx="1981440" cy="871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" descr=""/>
          <p:cNvPicPr/>
          <p:nvPr/>
        </p:nvPicPr>
        <p:blipFill>
          <a:blip r:embed="rId2"/>
          <a:srcRect l="22223" t="12388" r="27782" b="38099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66" name="Straight Connector 21"/>
          <p:cNvSpPr/>
          <p:nvPr/>
        </p:nvSpPr>
        <p:spPr>
          <a:xfrm>
            <a:off x="1905120" y="6400800"/>
            <a:ext cx="635796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AFB Project Cycle.t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152280" y="5494320"/>
            <a:ext cx="1981440" cy="871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" descr=""/>
          <p:cNvPicPr/>
          <p:nvPr/>
        </p:nvPicPr>
        <p:blipFill>
          <a:blip r:embed="rId3"/>
          <a:srcRect l="22223" t="12388" r="27782" b="38099"/>
          <a:stretch/>
        </p:blipFill>
        <p:spPr>
          <a:xfrm>
            <a:off x="8077320" y="5410080"/>
            <a:ext cx="1066680" cy="947880"/>
          </a:xfrm>
          <a:prstGeom prst="rect">
            <a:avLst/>
          </a:prstGeom>
          <a:ln w="0">
            <a:noFill/>
          </a:ln>
        </p:spPr>
      </p:pic>
      <p:sp>
        <p:nvSpPr>
          <p:cNvPr id="170" name="Straight Connector 21"/>
          <p:cNvSpPr/>
          <p:nvPr/>
        </p:nvSpPr>
        <p:spPr>
          <a:xfrm>
            <a:off x="1905120" y="6027840"/>
            <a:ext cx="635796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The Adaptation Fund Project Portfol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52280" y="5867280"/>
            <a:ext cx="1981440" cy="871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" descr=""/>
          <p:cNvPicPr/>
          <p:nvPr/>
        </p:nvPicPr>
        <p:blipFill>
          <a:blip r:embed="rId2"/>
          <a:srcRect l="22223" t="12388" r="27782" b="38099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74" name="Straight Connector 21"/>
          <p:cNvSpPr/>
          <p:nvPr/>
        </p:nvSpPr>
        <p:spPr>
          <a:xfrm>
            <a:off x="1905120" y="6400800"/>
            <a:ext cx="635796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Content Placeholder 7" descr=""/>
          <p:cNvPicPr/>
          <p:nvPr/>
        </p:nvPicPr>
        <p:blipFill>
          <a:blip r:embed="rId3"/>
          <a:stretch/>
        </p:blipFill>
        <p:spPr>
          <a:xfrm>
            <a:off x="450720" y="1596960"/>
            <a:ext cx="4280040" cy="4535640"/>
          </a:xfrm>
          <a:prstGeom prst="rect">
            <a:avLst/>
          </a:prstGeom>
          <a:ln w="0">
            <a:noFill/>
          </a:ln>
        </p:spPr>
      </p:pic>
      <p:sp>
        <p:nvSpPr>
          <p:cNvPr id="176" name="Content Placeholder 2"/>
          <p:cNvSpPr/>
          <p:nvPr/>
        </p:nvSpPr>
        <p:spPr>
          <a:xfrm>
            <a:off x="502920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it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ld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go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rkmen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tin America and Caribb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cu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nd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icar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lomo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The Adaptation Fund Project Portfol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52280" y="5867280"/>
            <a:ext cx="1981440" cy="871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" descr=""/>
          <p:cNvPicPr/>
          <p:nvPr/>
        </p:nvPicPr>
        <p:blipFill>
          <a:blip r:embed="rId2"/>
          <a:srcRect l="22223" t="12388" r="27782" b="38099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80" name="Straight Connector 21"/>
          <p:cNvSpPr/>
          <p:nvPr/>
        </p:nvSpPr>
        <p:spPr>
          <a:xfrm>
            <a:off x="1905120" y="6400800"/>
            <a:ext cx="635796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Chart 11" descr=""/>
          <p:cNvPicPr/>
          <p:nvPr/>
        </p:nvPicPr>
        <p:blipFill>
          <a:blip r:embed="rId3"/>
          <a:stretch/>
        </p:blipFill>
        <p:spPr>
          <a:xfrm>
            <a:off x="1292400" y="1365120"/>
            <a:ext cx="64306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33"/>
                </a:solidFill>
                <a:latin typeface="Calibri"/>
              </a:rPr>
              <a:t>The Adaptation Fund Mand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finance concrete adaptation projects and programmes t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 place in developing country Parties that are Parties to the Kyoto Protocol (Decision 10/CP.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country driven and are based on the needs, views and priorities of eligible Parties (1/CMP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 into account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ter al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national sustainable development strategies, poverty reduction strategies, NCs, NAPAs and other releva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instruments, where they exist (5/CMP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52280" y="5867280"/>
            <a:ext cx="1981440" cy="871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2"/>
          <a:srcRect l="22223" t="12388" r="27782" b="38099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01" name="Straight Connector 21"/>
          <p:cNvSpPr/>
          <p:nvPr/>
        </p:nvSpPr>
        <p:spPr>
          <a:xfrm>
            <a:off x="1905120" y="6400800"/>
            <a:ext cx="635796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33"/>
                </a:solidFill>
                <a:latin typeface="Calibri"/>
              </a:rPr>
              <a:t>Financing 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ing provided o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ll adaptation costs bas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projects and programmes to address the adverse effects of climate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 will finance projects/programmes whose principal and explicit  aim is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apt and increase climate resil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s/programmes have to b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iscussion on definition on-go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52280" y="5867280"/>
            <a:ext cx="1981440" cy="871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" descr=""/>
          <p:cNvPicPr/>
          <p:nvPr/>
        </p:nvPicPr>
        <p:blipFill>
          <a:blip r:embed="rId2"/>
          <a:srcRect l="22223" t="12388" r="27782" b="38099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06" name="Straight Connector 21"/>
          <p:cNvSpPr/>
          <p:nvPr/>
        </p:nvSpPr>
        <p:spPr>
          <a:xfrm>
            <a:off x="1905120" y="6400800"/>
            <a:ext cx="635796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33"/>
                </a:solidFill>
                <a:latin typeface="Calibri"/>
              </a:rPr>
              <a:t>Financing criteria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mmodation of different country circumstances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 prescribed sectors or approa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ulnerable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rojects/programmes must include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nowledge compon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orary country cap: USD 10 mil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orary cap for MIE share of funds: 5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52280" y="5867280"/>
            <a:ext cx="1981440" cy="871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"/>
          <p:cNvPicPr/>
          <p:nvPr/>
        </p:nvPicPr>
        <p:blipFill>
          <a:blip r:embed="rId2"/>
          <a:srcRect l="22223" t="12388" r="27782" b="38099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11" name="Straight Connector 21"/>
          <p:cNvSpPr/>
          <p:nvPr/>
        </p:nvSpPr>
        <p:spPr>
          <a:xfrm>
            <a:off x="1905120" y="6400800"/>
            <a:ext cx="635796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33"/>
                </a:solidFill>
                <a:latin typeface="Calibri"/>
              </a:rPr>
              <a:t>Prerequisites for proposing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ipient country/countries elig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by an accredited Implementing Entity (NIE / RIE / MI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al and access modality endorsed by the Designated Authority (D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y/ies did not receive funds up to country c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al has to meet project review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52280" y="5867280"/>
            <a:ext cx="1981440" cy="871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" descr=""/>
          <p:cNvPicPr/>
          <p:nvPr/>
        </p:nvPicPr>
        <p:blipFill>
          <a:blip r:embed="rId2"/>
          <a:srcRect l="22223" t="12388" r="27782" b="38099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16" name="Straight Connector 21"/>
          <p:cNvSpPr/>
          <p:nvPr/>
        </p:nvSpPr>
        <p:spPr>
          <a:xfrm>
            <a:off x="1905120" y="6400800"/>
            <a:ext cx="635796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33"/>
                </a:solidFill>
                <a:latin typeface="Calibri"/>
              </a:rPr>
              <a:t>Project/Programme Propos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projects/programmes larger than USD 1M, a choice of a one step (full proposal) or two step process (concept approval and project/programme docum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small-scale projects (below USD 1M) one-step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 proponents can get Project Formulation Grant for developing endorsed concepts to full propos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adline for proposals 9 weeks before AFB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52280" y="5867280"/>
            <a:ext cx="1981440" cy="871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" descr=""/>
          <p:cNvPicPr/>
          <p:nvPr/>
        </p:nvPicPr>
        <p:blipFill>
          <a:blip r:embed="rId2"/>
          <a:srcRect l="22223" t="12388" r="27782" b="38099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21" name="Straight Connector 21"/>
          <p:cNvSpPr/>
          <p:nvPr/>
        </p:nvSpPr>
        <p:spPr>
          <a:xfrm>
            <a:off x="1905120" y="6400800"/>
            <a:ext cx="635796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33"/>
                </a:solidFill>
                <a:latin typeface="Calibri"/>
              </a:rPr>
              <a:t>Project Concept Required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concept content areas also apply to fully-developed project docu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information is required at that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y Elig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 should be party to the Kyoto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 should be a developing country particularly vulnerable to the adverse effects of climate change (all non-Annex I countries qualif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52280" y="5867280"/>
            <a:ext cx="1981440" cy="871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" descr=""/>
          <p:cNvPicPr/>
          <p:nvPr/>
        </p:nvPicPr>
        <p:blipFill>
          <a:blip r:embed="rId2"/>
          <a:srcRect l="22223" t="12388" r="27782" b="38099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26" name="Straight Connector 21"/>
          <p:cNvSpPr/>
          <p:nvPr/>
        </p:nvSpPr>
        <p:spPr>
          <a:xfrm>
            <a:off x="1905120" y="6400800"/>
            <a:ext cx="635796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Project Concept Required Content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 Jus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ject endorsed by the government through its Designated Autho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ject / programme supports concrete adaptation actions to assist the country in addressing the adverse effects of climate change and builds in climate change resilience: description of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52280" y="5867280"/>
            <a:ext cx="1981440" cy="871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2"/>
          <a:srcRect l="22223" t="12388" r="27782" b="38099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31" name="Straight Connector 21"/>
          <p:cNvSpPr/>
          <p:nvPr/>
        </p:nvSpPr>
        <p:spPr>
          <a:xfrm>
            <a:off x="1905120" y="6400800"/>
            <a:ext cx="635796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Project Concept Required Content 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 Justification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ject / programme provides economic, social and environmental benefits, with particular reference to the most vulnerable communities, including gender consid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t-effectiveness of the project / programme: comparison to other possible inter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52280" y="5867280"/>
            <a:ext cx="1981440" cy="871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" descr=""/>
          <p:cNvPicPr/>
          <p:nvPr/>
        </p:nvPicPr>
        <p:blipFill>
          <a:blip r:embed="rId2"/>
          <a:srcRect l="22223" t="12388" r="27782" b="38099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21"/>
          <p:cNvSpPr/>
          <p:nvPr/>
        </p:nvSpPr>
        <p:spPr>
          <a:xfrm>
            <a:off x="1905120" y="6400800"/>
            <a:ext cx="635796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4:29:12Z</dcterms:created>
  <dc:creator>Daouda</dc:creator>
  <dc:description>Generic presentation on the Adaptation Fund.</dc:description>
  <dc:language>en-US</dc:language>
  <cp:lastModifiedBy>Samer Dweik</cp:lastModifiedBy>
  <dcterms:modified xsi:type="dcterms:W3CDTF">2011-09-02T14:03:45Z</dcterms:modified>
  <cp:revision>870</cp:revision>
  <dc:subject>Adaptation Fund presentation</dc:subject>
  <dc:title>The Adaptation Fund</dc:title>
</cp:coreProperties>
</file>